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D408-DF13-4F12-B621-62C44693D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77676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1978-A592-476A-9958-996BDEA44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695B-4587-456A-A353-8AE2F2F2B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DB5B-DC1C-4583-B1D2-CA8AFBDAB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59C9-D60B-4F91-8151-6E92C97E2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D3AB-9466-48A4-B2F6-BFFC8AF44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5CD5-60B3-4146-94BC-474701762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0D39-E1CC-4ACB-8709-3B54530AE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-360"/>
            <a:ext cx="800100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230C-0780-4F45-85CD-5B3A9C2F9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18B6-58C7-41B7-B083-04E3EB1F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89DD-2682-41B1-B9BC-F2A00728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795A-2880-443F-ABA0-FC0DC36B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963720"/>
            <a:ext cx="795816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EE862-1B74-4BE4-BBB2-DF826FA3B613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image" Target="../media/image8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44600" y="232920"/>
            <a:ext cx="5004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机械加工工艺规程设计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81120" y="317520"/>
            <a:ext cx="289080" cy="289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80920" y="1181160"/>
            <a:ext cx="731520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72000" bIns="72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规程设计的步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分析零件工艺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毛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定位基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拟定工艺路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确定各工序的设备、刀具、量具和夹具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确定各工序的切削用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填写工艺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71600" y="3200400"/>
            <a:ext cx="1905120" cy="9144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00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0981"/>
                </a:solidFill>
                <a:latin typeface="黑体"/>
                <a:ea typeface="黑体"/>
              </a:rPr>
              <a:t>定位基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3124080"/>
            <a:ext cx="1600200" cy="1219320"/>
          </a:xfrm>
          <a:prstGeom prst="rect">
            <a:avLst/>
          </a:prstGeom>
          <a:solidFill>
            <a:srgbClr val="ff00ff"/>
          </a:solidFill>
          <a:ln w="12600">
            <a:solidFill>
              <a:srgbClr val="3366ff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、粗基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、精基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276720" y="3581280"/>
            <a:ext cx="687240" cy="273240"/>
            <a:chOff x="3276720" y="3581280"/>
            <a:chExt cx="687240" cy="273240"/>
          </a:xfrm>
        </p:grpSpPr>
        <p:sp>
          <p:nvSpPr>
            <p:cNvPr id="141" name=""/>
            <p:cNvSpPr/>
            <p:nvPr/>
          </p:nvSpPr>
          <p:spPr>
            <a:xfrm>
              <a:off x="3276720" y="3581280"/>
              <a:ext cx="687240" cy="273240"/>
            </a:xfrm>
            <a:custGeom>
              <a:avLst/>
              <a:gdLst/>
              <a:ahLst/>
              <a:rect l="l" t="t" r="r" b="b"/>
              <a:pathLst>
                <a:path w="433" h="220">
                  <a:moveTo>
                    <a:pt x="432" y="96"/>
                  </a:moveTo>
                  <a:lnTo>
                    <a:pt x="288" y="0"/>
                  </a:lnTo>
                  <a:lnTo>
                    <a:pt x="240" y="48"/>
                  </a:lnTo>
                  <a:lnTo>
                    <a:pt x="96" y="48"/>
                  </a:lnTo>
                  <a:lnTo>
                    <a:pt x="0" y="144"/>
                  </a:lnTo>
                  <a:lnTo>
                    <a:pt x="144" y="144"/>
                  </a:lnTo>
                  <a:lnTo>
                    <a:pt x="69" y="219"/>
                  </a:lnTo>
                  <a:lnTo>
                    <a:pt x="432" y="96"/>
                  </a:lnTo>
                </a:path>
              </a:pathLst>
            </a:cu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76720" y="3640680"/>
              <a:ext cx="154080" cy="12024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96" y="0"/>
                  </a:moveTo>
                  <a:lnTo>
                    <a:pt x="96" y="96"/>
                  </a:lnTo>
                  <a:lnTo>
                    <a:pt x="0" y="96"/>
                  </a:lnTo>
                  <a:lnTo>
                    <a:pt x="96" y="0"/>
                  </a:lnTo>
                </a:path>
              </a:pathLst>
            </a:custGeom>
            <a:gradFill rotWithShape="0">
              <a:gsLst>
                <a:gs pos="0">
                  <a:srgbClr val="fc0128"/>
                </a:gs>
                <a:gs pos="50000">
                  <a:srgbClr val="000000"/>
                </a:gs>
                <a:gs pos="100000">
                  <a:srgbClr val="fc012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429000" y="3640680"/>
              <a:ext cx="154080" cy="12024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96" y="0"/>
                  </a:moveTo>
                  <a:lnTo>
                    <a:pt x="0" y="0"/>
                  </a:lnTo>
                  <a:lnTo>
                    <a:pt x="0" y="96"/>
                  </a:lnTo>
                  <a:lnTo>
                    <a:pt x="96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fc0128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1835280" y="260280"/>
            <a:ext cx="546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cc00ff"/>
                </a:solidFill>
                <a:latin typeface="黑体"/>
                <a:ea typeface="黑体"/>
              </a:rPr>
              <a:t>定位基准选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6248520" y="1981080"/>
            <a:ext cx="2286000" cy="1519200"/>
          </a:xfrm>
          <a:prstGeom prst="wedgeRoundRectCallout">
            <a:avLst>
              <a:gd name="adj1" fmla="val 76527"/>
              <a:gd name="adj2" fmla="val 4404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最初工序中采用毛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上未经加工的表面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为定位基准</a:t>
            </a:r>
            <a:r>
              <a:rPr b="0" lang="zh-CN" sz="1800" spc="-1" strike="noStrike">
                <a:solidFill>
                  <a:srgbClr val="9900ff"/>
                </a:solidFill>
                <a:latin typeface="黑体"/>
                <a:ea typeface="黑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6323760" y="4076640"/>
            <a:ext cx="2135160" cy="1181160"/>
          </a:xfrm>
          <a:prstGeom prst="wedgeRoundRectCallout">
            <a:avLst>
              <a:gd name="adj1" fmla="val 81967"/>
              <a:gd name="adj2" fmla="val -5887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在其后各工序中采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经过加工的表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作为定位基准</a:t>
            </a:r>
            <a:r>
              <a:rPr b="0" lang="zh-CN" sz="1800" spc="-1" strike="noStrike">
                <a:solidFill>
                  <a:srgbClr val="9900ff"/>
                </a:solidFill>
                <a:latin typeface="黑体"/>
                <a:ea typeface="黑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826920" y="5157720"/>
            <a:ext cx="7632720" cy="151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装夹：工件从定位到夹紧的全过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装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夹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工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件时，一般是先定位后夹紧，而在三爪卡盘上安装工件时，定位与夹紧是同时进行的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26920" y="3573360"/>
            <a:ext cx="7850520" cy="1351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夹紧：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工件定位后将其固定，使其在加工过程中不致因切削力、重力和惯性力的作用而偏离正确的位置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保持定位位置不变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的操作。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26920" y="2492280"/>
            <a:ext cx="7620120" cy="914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定位：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使工件在机床或夹具中占有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正确位置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的过程。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47640" y="260280"/>
            <a:ext cx="61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工件的装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79640" y="126828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装夹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定位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夹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09720" y="-150840"/>
            <a:ext cx="4091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定位基准的选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在机械加工中，无论采用哪种安装方法，都必须使工件在机床或夹具上正确地定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六点定位</a:t>
            </a:r>
            <a:r>
              <a:rPr b="1" lang="zh-CN" sz="3000" spc="-1" strike="noStrike">
                <a:solidFill>
                  <a:srgbClr val="ff9900"/>
                </a:solidFill>
                <a:latin typeface="Verdana"/>
              </a:rPr>
              <a:t>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任何一个未被约束的物体，在空间有六个自由度。而要使物体在空间有确定的位置，必须约束这六个自由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rcRect l="9790" t="0" r="1011" b="7859"/>
          <a:stretch/>
        </p:blipFill>
        <p:spPr>
          <a:xfrm>
            <a:off x="1187280" y="3645000"/>
            <a:ext cx="7272360" cy="2808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22640" y="384120"/>
            <a:ext cx="489888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Verdana"/>
              </a:rPr>
              <a:t>六点定位原理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203640" y="3645000"/>
            <a:ext cx="5735520" cy="27860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68360" y="1413000"/>
            <a:ext cx="8391600" cy="28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六点定位原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个自由的物体，它对三个相互垂直的坐标系来说，有六个活动可能性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其中三种是移动，三种是转动。习惯上把这种活动的可能性称为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自由度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因此空间任一自由物体共有六个自由度。如图所示，物体的六个自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度。欲使工件在空间取得唯一位置，则必须限制六个自由度。这就是六点定位原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179280" y="3789360"/>
            <a:ext cx="3168720" cy="25495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854064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限制自由度与加工技术要求的关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3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需限制几个自由度？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3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需限制哪几个自由度？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859280" y="2492280"/>
            <a:ext cx="3745080" cy="1368360"/>
            <a:chOff x="4859280" y="2492280"/>
            <a:chExt cx="3745080" cy="1368360"/>
          </a:xfrm>
        </p:grpSpPr>
        <p:sp>
          <p:nvSpPr>
            <p:cNvPr id="165" name=""/>
            <p:cNvSpPr/>
            <p:nvPr/>
          </p:nvSpPr>
          <p:spPr>
            <a:xfrm>
              <a:off x="4859280" y="2492280"/>
              <a:ext cx="360360" cy="1368360"/>
            </a:xfrm>
            <a:custGeom>
              <a:avLst/>
              <a:gdLst>
                <a:gd name="textAreaLeft" fmla="*/ 0 w 360360"/>
                <a:gd name="textAreaRight" fmla="*/ 129960 w 360360"/>
                <a:gd name="textAreaTop" fmla="*/ 35640 h 1368360"/>
                <a:gd name="textAreaBottom" fmla="*/ 1332720 h 13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35640" y="2708280"/>
              <a:ext cx="316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完全取决于加工技术要求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71720" y="337680"/>
            <a:ext cx="82296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000" spc="-1" strike="noStrike">
                <a:solidFill>
                  <a:srgbClr val="ff3300"/>
                </a:solidFill>
                <a:latin typeface="Verdana"/>
              </a:rPr>
              <a:t>工件的四种定位形式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 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1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完全定位与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2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不完全定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 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的六个自由度完全被限制的定位称为完全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按加工要求，允许有一个或几个自由度不被限制的定位称为不完全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28600" y="1219320"/>
            <a:ext cx="8686800" cy="4027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72" name=""/>
          <p:cNvSpPr/>
          <p:nvPr/>
        </p:nvSpPr>
        <p:spPr>
          <a:xfrm>
            <a:off x="3000960" y="5715000"/>
            <a:ext cx="31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7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完全定位与不完全定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50920" y="1025280"/>
            <a:ext cx="85406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3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欠定位与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4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过定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按工序的加工要求，工件应该限制的自由度而未予限制的定位，称为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欠定位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。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在确定工件定位方案时，欠定位时绝对不允许的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的同一自由度被二个或二个以上的支撑点重复限制的定位，称为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过定位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在通常情况下，应尽量避免出现过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82600" y="173160"/>
            <a:ext cx="280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工件的基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1773360"/>
            <a:ext cx="7924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工件的基准：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在零件的设计和制造过程中，要确定一些点、线或面的位置，必须以一些指定的点、线或面作为依据，这些作为依据的点、线或面，称为基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按照作用的不同，常把基准分为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设计基准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工艺基准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两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882720" y="152280"/>
            <a:ext cx="345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工件的基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1197000"/>
            <a:ext cx="79250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设计基准：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即设计零件的基准，如下图左：齿轮内孔、外圆和齿轮分度圆均以轴线为基准；而两端面是互为基准。下图右：表面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和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及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的设计基准是表面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。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的设计基准是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工艺基准：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在制造零件时所使用的基准，它又分为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工序基准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、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定位基准、测量基准、装配基准。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下图左在加工时、轴线并不实际存在，所以内孔实际是加工外圆和左端面的定位基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066680" y="3429000"/>
            <a:ext cx="3124440" cy="31240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3581280" cy="31240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1006560" y="35244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25360" y="182160"/>
            <a:ext cx="443232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零件加工工艺性分析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174600" y="1143000"/>
            <a:ext cx="24685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零件工艺性包括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9360" y="1596960"/>
            <a:ext cx="865836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零件结构形状的合理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</a:rPr>
              <a:t>几何图素关系的确定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259325"/>
                </a:solidFill>
                <a:latin typeface="Verdana"/>
              </a:rPr>
              <a:t>精度及技术要求的可实现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9d357f"/>
                </a:solidFill>
                <a:latin typeface="Verdana"/>
              </a:rPr>
              <a:t>工件材料的可切削性能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4160" y="2427120"/>
            <a:ext cx="8658000" cy="19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结构形状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在满足使用要求的前提下加工的可行性和经济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尽量避免悬臂、窄槽、内腔尖角以及刚性不稳的薄壁、细长杆之类的结构，减少或避免采用成型刀具加工的结构，孔系、内转角半径等尽量按标准刀具尺寸统一以减少换刀次数，深腔处窄槽和转角尺寸要充分考虑刀具的刚性等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1840" y="4684680"/>
            <a:ext cx="8658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几何关系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视图完整、正确，表达清楚无歧义，几何元素的关系应明确，避免在图纸上可能出现加工轮廓的数据不充分、尺寸模糊不清及尺寸封闭干涉等缺陷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98560" y="242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工艺基准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72840" y="119052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3399"/>
                </a:solidFill>
                <a:latin typeface="Verdana"/>
              </a:rPr>
              <a:t>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工艺基准分为工序基准、定位基准、测量基准、装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工序基准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工艺文件上用以标定加工表面 位置的基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定位基准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机械加工中，用来使工件在机床或夹具中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占有正确位置的点、线或面。它是工艺基准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中最主要的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定位基准选择是否合理，对保证工件加工后的尺寸精度和形位精度、安排加工顺序、提高生产率以及降低生产成本起着决定性的作用，它是制定工艺过程的主要任务之一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定位基准可分为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粗基准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和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精基准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两种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30280" y="33984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11240" y="150480"/>
            <a:ext cx="777240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工艺基准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Verdana"/>
              </a:rPr>
              <a:t>3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、测量基准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用以测量已加工表面尺寸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位置的基准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Verdana"/>
              </a:rPr>
              <a:t>4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、装配基准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用来确定零件或部件在机器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中的位置的基准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68160" y="36360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2000" y="166320"/>
            <a:ext cx="7547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定位基准的选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1960" y="1905120"/>
            <a:ext cx="7772400" cy="46260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粗基准</a:t>
            </a:r>
            <a:r>
              <a:rPr b="1" lang="zh-CN" sz="2600" spc="-1" strike="noStrike">
                <a:solidFill>
                  <a:srgbClr val="ff9900"/>
                </a:solidFill>
                <a:latin typeface="Verdana"/>
              </a:rPr>
              <a:t>：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毛坯表面的定位基准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   </a:t>
            </a: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1.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不加工的表面作粗基准：这样可使加工表面具有较正确的相对位置，并有可能在一次安装中把大部分加工表面加工出来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9907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选择定位基准是为了保证工件的位置精度，因此，选择定位基准总是从有位置精度要求的表面开始进行选择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916360" y="3789360"/>
            <a:ext cx="3456000" cy="24717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706320" y="40176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23920" y="1681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2.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要求加工余量均匀的表面作为粗基准：这样可以保证作为粗基准的表面加工时余量均匀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2195640" y="2565360"/>
            <a:ext cx="4751280" cy="33418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743040" y="42696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2640" y="299520"/>
            <a:ext cx="80010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3.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对于所有表面都要加工的表面，选取余量和公差最小的表面作粗基准，以避免余量不足而造成废品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2268360" y="2852640"/>
            <a:ext cx="5040360" cy="29178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770040" y="40176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73160" y="150480"/>
            <a:ext cx="77724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4.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光洁、平整、面积大的表面作粗基准；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5.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粗基准不应重复使用。一般情况下，粗基准只允许使用一次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340000" y="2924280"/>
            <a:ext cx="4392720" cy="30859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755640" y="40176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2760" y="1504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          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对于形位公差精度要求较高的零件，应采用已加工过的表面作为定位基准。这种定位基准面叫做精基准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精基准的选择原则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</a:t>
            </a: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1.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基准重合原则：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选用定位基准与设计基准重合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       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的原则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817560" y="46368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38320" y="-36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</a:t>
            </a: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2. 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基准统一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位置精度要求较高的各加工表面，尽可能在多数工序中统一用同一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817560" y="414360"/>
            <a:ext cx="28908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42640" y="312480"/>
            <a:ext cx="80010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     </a:t>
            </a: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3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互为基准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需要加工的各表面中，加工时互相以对方为定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908000" y="2924280"/>
            <a:ext cx="5473800" cy="26780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768240" y="37800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2000" y="21744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4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自为基准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以加工表面自身作为定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总之，无论是粗基准还是精基准的选择，都必须首先使工件定位稳定，安全可靠，然后再考虑夹具设计容易、结构简单、成本低廉等技术经济原则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1547640" y="2060640"/>
            <a:ext cx="6120000" cy="20527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781200" y="42696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25360" y="182160"/>
            <a:ext cx="443232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零件加工工艺性分析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181160"/>
            <a:ext cx="865836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精度与技术要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包括尺寸精度、形位公差和表面粗糙度。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在满足使用要求的前提下若能降低精度要求，则可降低加工难度，减少加工次数，提高生产率，降低成本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尺寸标注应便于编程且尽可能利于设计基准、工艺基准的统一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1840" y="2962440"/>
            <a:ext cx="8658000" cy="18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工件材质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零件毛坯材料及热处理要求，是选择刀具（材料、几何参数及使用寿命），确定加工工序、切削用量及选择机床的重要依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66ff"/>
                </a:solidFill>
                <a:latin typeface="Verdana"/>
              </a:rPr>
              <a:t>在满足零件功能的前提下，尽量使用廉价的国产材料，不选贵重紧缺材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划分加工阶段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"/>
          <p:cNvSpPr/>
          <p:nvPr/>
        </p:nvSpPr>
        <p:spPr>
          <a:xfrm>
            <a:off x="177840" y="1155600"/>
            <a:ext cx="87580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加工阶段一般为：粗加工、半精加工、精加工和光整加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有利于保证加工质量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可使大切削量粗切引起的变形充分释放，由半精、精加工逐步校正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合理地使用设备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普通机床粗加工，数控机床精加工。充分发挥粗、精加工设备特点，有利于长期保证机床精度。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有利于及早发现毛坯的缺陷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安排在前，若发现了毛坯缺陷，及时予以报废，以免继续加工造成工时的浪费。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便于安排热处理工序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后要时效消除应力，精加工前要淬火，淬火变形可由精加工消除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粗精加工分开，使机床台数和工序数增加，批量较小时，机床负荷率低、不经济。所以当工件批量小、精度要求不太高、工件刚性较好时也可以不分或少分阶段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重型零件由于输送及装夹困难，一般在一次装夹下完成粗精加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3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8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3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8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3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8" dur="5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3" dur="5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加工顺序的安排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"/>
          <p:cNvSpPr/>
          <p:nvPr/>
        </p:nvSpPr>
        <p:spPr>
          <a:xfrm>
            <a:off x="177840" y="1155600"/>
            <a:ext cx="87580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基准先行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基准表面先加工，为后续工序作可靠的定位。如轴类零件第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道工序一般为铣端面钻中心孔，然后以中心孔定位加工其它表面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面后孔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当零件上有较大的平面可以用来作为定位基准时，总是先加工平面，再以平面定位加工孔，保证孔和平面之间的位置精度，这样定位比较稳定，装夹也方便，并可避免粗糙面钻孔引起的偏斜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主后次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先加工主要表面（位置精度要求较高的基准面和工作表面）后加工次要表面（如键槽、螺孔、紧固小孔等）。次要表面一般在主要表面达到一定精度后，最终精加工之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粗后精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对于精度要求较高的零件，按由粗到精的顺序依次进行，逐步提高加工精度。这一点对于刚性较差的零件，尤其不能忽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5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0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5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0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5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0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5" dur="5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其它工序的安排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"/>
          <p:cNvSpPr/>
          <p:nvPr/>
        </p:nvSpPr>
        <p:spPr>
          <a:xfrm>
            <a:off x="177840" y="1494000"/>
            <a:ext cx="875808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热处理工序的安排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前的预备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消除组织的不均匀，细化晶粒，改善金属的切削加工性能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有退火、正火和调质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中间工序间的时效退火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消除残余应力引起工件的变形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精加工前的最终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获得零件使用上所需要的力学性能、表面硬度和抗蚀性，如淬火、渗碳、渗氮等。因淬火变形大，最终做磨削加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辅助工序安排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检验工序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重要工序的前后、送往外车间之前、最终检验。确保质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清洗和去毛刺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淬火工序之前、全部完工之后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消磁等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根据需要做消磁、平衡等安排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2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7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2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7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2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7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2" dur="5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7" dur="500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895320" y="301680"/>
            <a:ext cx="289080" cy="28872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24000" y="-360"/>
            <a:ext cx="39276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163440" y="1101600"/>
            <a:ext cx="8489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规程：规定零件制造工艺过程和操作方法等的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</a:rPr>
              <a:t>工艺文件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包括工艺路线、各工序具体加工内容、所用机床夹具、切削参数及工时定额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87600" y="2430360"/>
            <a:ext cx="595764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指导生产的主要技术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组织生产和管理的基本依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新建、扩建工厂车间的基本资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72880" y="2509920"/>
            <a:ext cx="100188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作用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8360" y="4208400"/>
            <a:ext cx="909720" cy="1371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常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工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73320" y="3997440"/>
            <a:ext cx="235260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过程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刀具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走刀路线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178600" y="3987000"/>
            <a:ext cx="36684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的装配图和零件图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验收的质量标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的生产纲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毛坯的生产条件或协作关系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现有的生产条件和资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国内外先进工艺发展状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098960" y="4292640"/>
            <a:ext cx="909720" cy="1371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设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准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资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4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9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4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9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4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9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9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4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9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4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684360" y="41292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096920" y="299880"/>
            <a:ext cx="41371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工艺规程卡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671400" y="1111320"/>
            <a:ext cx="7921800" cy="498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684360" y="37476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071720" y="249120"/>
            <a:ext cx="5184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卡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614520" y="1154160"/>
            <a:ext cx="7972200" cy="52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46200" y="374760"/>
            <a:ext cx="288720" cy="2887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rcRect l="0" t="3182" r="0" b="0"/>
          <a:stretch/>
        </p:blipFill>
        <p:spPr>
          <a:xfrm>
            <a:off x="703440" y="1138320"/>
            <a:ext cx="7721280" cy="53942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093680" y="276120"/>
            <a:ext cx="61390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及刀具卡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97000" y="174240"/>
            <a:ext cx="376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拟定工艺路线举例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762120" y="3276720"/>
          <a:ext cx="6629400" cy="325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276720"/>
                    <a:ext cx="6629400" cy="32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</a:t>
            </a: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例：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如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图所示方头小轴，中批生产，材料为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20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Cr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要求</a:t>
            </a:r>
            <a:r>
              <a:rPr b="1" lang="zh-CN" sz="2600" spc="-1" strike="noStrike">
                <a:solidFill>
                  <a:srgbClr val="800000"/>
                </a:solidFill>
                <a:latin typeface="Symbol"/>
                <a:ea typeface="Symbol"/>
              </a:rPr>
              <a:t>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12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h7 mm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段渗碳（深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0.8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mm~1.1mm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）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淬火硬度为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50 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HRC ~55 HRC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试拟定其工艺路线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0" y="6248520"/>
            <a:ext cx="25192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方头小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4"/>
          <a:stretch/>
        </p:blipFill>
        <p:spPr>
          <a:xfrm>
            <a:off x="855720" y="41292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-36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04920" y="1828800"/>
            <a:ext cx="79246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685800" y="304920"/>
          <a:ext cx="8077320" cy="60656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6705720"/>
              </a:tblGrid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方头小轴制造工艺路线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下料：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钢棒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×470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若干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3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粗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右端面及右端外圆，留磨余量每面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(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不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，按长度切断，每段切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~3)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右端柱段，车左端面，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；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左端外圆至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                                                 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渗碳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42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半精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左端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段，车右端面，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，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打中心孔；车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、 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圆柱段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部分，车左端面至尺寸，打中心孔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铣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铣削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×17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方头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淬火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C=50~60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精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研中心孔  粗糙度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磨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磨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7 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外圆，达到图纸要求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清洗、油封、包装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686800" y="-7972560"/>
            <a:ext cx="69840" cy="83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8713800" cy="47941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1077840" y="1969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81240" y="152280"/>
            <a:ext cx="4038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确定毛坯的种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28720" y="996840"/>
            <a:ext cx="74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与零件的结构形状、尺寸大小、材料的机械性能和零件的生产类型及毛坯车间的具体生产条件有关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42920" y="1989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铸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916360" y="1738440"/>
            <a:ext cx="5903640" cy="865080"/>
          </a:xfrm>
          <a:prstGeom prst="wedgeRoundRectCallout">
            <a:avLst>
              <a:gd name="adj1" fmla="val -68662"/>
              <a:gd name="adj2" fmla="val 8166"/>
              <a:gd name="adj3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包括铸钢、铸铁、有色金属及合金的铸件等。铸件毛坯的形状可以相当复杂，尺寸可以相当大，且吸振性能较好，但铸件的机械性能较低，一般壳体零件的毛坯多用铸件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42920" y="27813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锻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59280" y="2708280"/>
            <a:ext cx="5903640" cy="792000"/>
          </a:xfrm>
          <a:prstGeom prst="wedgeRoundRectCallout">
            <a:avLst>
              <a:gd name="adj1" fmla="val -70222"/>
              <a:gd name="adj2" fmla="val -9717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机械性能较好，有较高的强度和冲击韧性，但毛坯的形状不宜复杂，如轴类和齿轮类零件的毛坯常用锻件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42920" y="3645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型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43280" y="3573360"/>
            <a:ext cx="6121440" cy="1440000"/>
          </a:xfrm>
          <a:prstGeom prst="wedgeRoundRectCallout">
            <a:avLst>
              <a:gd name="adj1" fmla="val -66287"/>
              <a:gd name="adj2" fmla="val -31916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包括圆形、方形、六角形及其它断面形状的棒料、管料及板料。棒料常用在普通车床、六角车床及自动和半自动车床上加工轴类、盘类及套类等中小型零件。冷拉棒料比热轧棒料精度高且机械性能好，但直径较小。板料常用冷冲压的方法制成零件，但毛坯的厚度不宜过大。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00000" y="47973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焊接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084640"/>
            <a:ext cx="5257800" cy="830520"/>
          </a:xfrm>
          <a:prstGeom prst="wedgeRoundRectCallout">
            <a:avLst>
              <a:gd name="adj1" fmla="val -66759"/>
              <a:gd name="adj2" fmla="val -51722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对尺寸较大、形状较复杂的毛坯，可采用型钢或锻件焊接成毛坯，但焊接件吸振性能差，容易变形，尺寸误差大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工程塑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5943600"/>
            <a:ext cx="5334120" cy="914400"/>
          </a:xfrm>
          <a:prstGeom prst="wedgeRoundRectCallout">
            <a:avLst>
              <a:gd name="adj1" fmla="val -61337"/>
              <a:gd name="adj2" fmla="val -32810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它是近年来在机械制造业中普遍推广的一种毛坯，其形状可以很复杂，尺寸精度高，但机械性能差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"/>
          <p:cNvGrpSpPr/>
          <p:nvPr/>
        </p:nvGrpSpPr>
        <p:grpSpPr>
          <a:xfrm>
            <a:off x="304920" y="1600200"/>
            <a:ext cx="8534160" cy="4952880"/>
            <a:chOff x="304920" y="1600200"/>
            <a:chExt cx="8534160" cy="4952880"/>
          </a:xfrm>
        </p:grpSpPr>
        <p:grpSp>
          <p:nvGrpSpPr>
            <p:cNvPr id="263" name=""/>
            <p:cNvGrpSpPr/>
            <p:nvPr/>
          </p:nvGrpSpPr>
          <p:grpSpPr>
            <a:xfrm>
              <a:off x="308520" y="1604160"/>
              <a:ext cx="8525880" cy="4944600"/>
              <a:chOff x="308520" y="1604160"/>
              <a:chExt cx="8525880" cy="494460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08520" y="1604160"/>
                <a:ext cx="671760" cy="920160"/>
                <a:chOff x="308520" y="1604160"/>
                <a:chExt cx="671760" cy="92016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364320" y="1604160"/>
                  <a:ext cx="55980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308520" y="1604160"/>
                  <a:ext cx="67176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980280" y="1604160"/>
                <a:ext cx="4005720" cy="920160"/>
                <a:chOff x="980280" y="1604160"/>
                <a:chExt cx="4005720" cy="92016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1036080" y="1604160"/>
                  <a:ext cx="389376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980280" y="1604160"/>
                  <a:ext cx="400572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4986360" y="1604160"/>
                <a:ext cx="2484720" cy="447120"/>
                <a:chOff x="4986360" y="1604160"/>
                <a:chExt cx="2484720" cy="44712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5042160" y="1604160"/>
                  <a:ext cx="2372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986360" y="1604160"/>
                  <a:ext cx="2484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7471080" y="1604160"/>
                <a:ext cx="1363320" cy="920160"/>
                <a:chOff x="7471080" y="1604160"/>
                <a:chExt cx="1363320" cy="92016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7526880" y="1604160"/>
                  <a:ext cx="125136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7471080" y="1604160"/>
                  <a:ext cx="136332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4986360" y="2051280"/>
                <a:ext cx="754920" cy="473040"/>
                <a:chOff x="4986360" y="2051280"/>
                <a:chExt cx="754920" cy="47304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5042160" y="2051280"/>
                  <a:ext cx="6429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986360" y="2051280"/>
                  <a:ext cx="7549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5741280" y="2051280"/>
                <a:ext cx="862920" cy="473040"/>
                <a:chOff x="5741280" y="2051280"/>
                <a:chExt cx="862920" cy="47304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5797080" y="2051280"/>
                  <a:ext cx="7509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741280" y="2051280"/>
                  <a:ext cx="8629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604200" y="2051280"/>
                <a:ext cx="866520" cy="473040"/>
                <a:chOff x="6604200" y="2051280"/>
                <a:chExt cx="866520" cy="47304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660000" y="2051280"/>
                  <a:ext cx="7545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604200" y="2051280"/>
                  <a:ext cx="8665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308520" y="2524320"/>
                <a:ext cx="671760" cy="447120"/>
                <a:chOff x="308520" y="2524320"/>
                <a:chExt cx="671760" cy="44712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364320" y="252432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308520" y="252432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980280" y="2524320"/>
                <a:ext cx="4005720" cy="447120"/>
                <a:chOff x="980280" y="2524320"/>
                <a:chExt cx="4005720" cy="44712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1036080" y="252432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工件右端，伸出长度约为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,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左端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980280" y="252432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986360" y="2524320"/>
                <a:ext cx="754920" cy="447120"/>
                <a:chOff x="4986360" y="2524320"/>
                <a:chExt cx="754920" cy="44712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5042160" y="252432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986360" y="252432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5741280" y="2524320"/>
                <a:ext cx="862920" cy="447120"/>
                <a:chOff x="5741280" y="2524320"/>
                <a:chExt cx="862920" cy="44712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5797080" y="252432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741280" y="252432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6604200" y="2524320"/>
                <a:ext cx="866520" cy="447120"/>
                <a:chOff x="6604200" y="2524320"/>
                <a:chExt cx="866520" cy="44712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6660000" y="252432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604200" y="252432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7471080" y="2524320"/>
                <a:ext cx="1363320" cy="447120"/>
                <a:chOff x="7471080" y="2524320"/>
                <a:chExt cx="1363320" cy="4471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7526880" y="252432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7471080" y="252432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308520" y="2971440"/>
                <a:ext cx="671760" cy="447120"/>
                <a:chOff x="308520" y="2971440"/>
                <a:chExt cx="671760" cy="44712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364320" y="29714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08520" y="29714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980280" y="2971440"/>
                <a:ext cx="4005720" cy="447120"/>
                <a:chOff x="980280" y="2971440"/>
                <a:chExt cx="4005720" cy="44712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1036080" y="29714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面外圆、台阶面，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980280" y="29714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4986360" y="2971440"/>
                <a:ext cx="754920" cy="447120"/>
                <a:chOff x="4986360" y="2971440"/>
                <a:chExt cx="754920" cy="4471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5042160" y="29714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4986360" y="29714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5741280" y="2971440"/>
                <a:ext cx="862920" cy="447120"/>
                <a:chOff x="5741280" y="2971440"/>
                <a:chExt cx="862920" cy="4471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5797080" y="29714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5741280" y="29714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6604200" y="2971440"/>
                <a:ext cx="866520" cy="447120"/>
                <a:chOff x="6604200" y="2971440"/>
                <a:chExt cx="866520" cy="4471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6660000" y="29714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6604200" y="29714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7471080" y="2971440"/>
                <a:ext cx="1363320" cy="447120"/>
                <a:chOff x="7471080" y="2971440"/>
                <a:chExt cx="1363320" cy="4471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7526880" y="29714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471080" y="29714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308520" y="3418560"/>
                <a:ext cx="671760" cy="447120"/>
                <a:chOff x="308520" y="3418560"/>
                <a:chExt cx="671760" cy="4471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364320" y="341856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308520" y="341856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980280" y="3418560"/>
                <a:ext cx="4005720" cy="447120"/>
                <a:chOff x="980280" y="3418560"/>
                <a:chExt cx="4005720" cy="44712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1036080" y="341856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左端面、外圆、倒角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980280" y="341856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4986360" y="3418560"/>
                <a:ext cx="754920" cy="447120"/>
                <a:chOff x="4986360" y="3418560"/>
                <a:chExt cx="754920" cy="44712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5042160" y="341856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4986360" y="341856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5741280" y="3418560"/>
                <a:ext cx="862920" cy="447120"/>
                <a:chOff x="5741280" y="3418560"/>
                <a:chExt cx="862920" cy="44712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5797080" y="341856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5741280" y="341856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6604200" y="3418560"/>
                <a:ext cx="866520" cy="447120"/>
                <a:chOff x="6604200" y="3418560"/>
                <a:chExt cx="866520" cy="44712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6660000" y="341856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604200" y="341856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7471080" y="3418560"/>
                <a:ext cx="1363320" cy="447120"/>
                <a:chOff x="7471080" y="3418560"/>
                <a:chExt cx="1363320" cy="44712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7526880" y="341856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7471080" y="341856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308520" y="3865680"/>
                <a:ext cx="671760" cy="447120"/>
                <a:chOff x="308520" y="3865680"/>
                <a:chExt cx="671760" cy="44712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364320" y="386568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308520" y="386568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980280" y="3865680"/>
                <a:ext cx="4005720" cy="447120"/>
                <a:chOff x="980280" y="3865680"/>
                <a:chExt cx="4005720" cy="44712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1036080" y="386568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号刀切槽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10×Φ26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并倒角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980280" y="386568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4986360" y="3865680"/>
                <a:ext cx="754920" cy="447120"/>
                <a:chOff x="4986360" y="3865680"/>
                <a:chExt cx="754920" cy="44712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5042160" y="386568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4986360" y="386568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5741280" y="3865680"/>
                <a:ext cx="862920" cy="447120"/>
                <a:chOff x="5741280" y="3865680"/>
                <a:chExt cx="862920" cy="44712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5797080" y="386568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5741280" y="386568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6604200" y="3865680"/>
                <a:ext cx="866520" cy="447120"/>
                <a:chOff x="6604200" y="3865680"/>
                <a:chExt cx="866520" cy="44712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6660000" y="386568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604200" y="386568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7471080" y="3865680"/>
                <a:ext cx="1363320" cy="447120"/>
                <a:chOff x="7471080" y="3865680"/>
                <a:chExt cx="1363320" cy="44712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7526880" y="386568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7471080" y="386568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308520" y="4312800"/>
                <a:ext cx="671760" cy="447120"/>
                <a:chOff x="308520" y="4312800"/>
                <a:chExt cx="671760" cy="44712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364320" y="431280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308520" y="431280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980280" y="4312800"/>
                <a:ext cx="4005720" cy="447120"/>
                <a:chOff x="980280" y="4312800"/>
                <a:chExt cx="4005720" cy="44712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1036080" y="431280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工件左端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粗车右端端面、锥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980280" y="431280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4986360" y="4312800"/>
                <a:ext cx="754920" cy="447120"/>
                <a:chOff x="4986360" y="4312800"/>
                <a:chExt cx="754920" cy="44712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5042160" y="431280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4986360" y="431280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5741280" y="4312800"/>
                <a:ext cx="862920" cy="447120"/>
                <a:chOff x="5741280" y="4312800"/>
                <a:chExt cx="862920" cy="44712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5797080" y="431280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5741280" y="431280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6604200" y="4312800"/>
                <a:ext cx="866520" cy="447120"/>
                <a:chOff x="6604200" y="4312800"/>
                <a:chExt cx="866520" cy="44712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6660000" y="431280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6604200" y="431280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7471080" y="4312800"/>
                <a:ext cx="1363320" cy="447120"/>
                <a:chOff x="7471080" y="4312800"/>
                <a:chExt cx="1363320" cy="44712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7526880" y="431280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471080" y="431280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308520" y="4759920"/>
                <a:ext cx="671760" cy="447120"/>
                <a:chOff x="308520" y="4759920"/>
                <a:chExt cx="671760" cy="44712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364320" y="475992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308520" y="475992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980280" y="4759920"/>
                <a:ext cx="4005720" cy="447120"/>
                <a:chOff x="980280" y="4759920"/>
                <a:chExt cx="4005720" cy="44712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1036080" y="475992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面及外圆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980280" y="475992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4986360" y="4759920"/>
                <a:ext cx="754920" cy="447120"/>
                <a:chOff x="4986360" y="4759920"/>
                <a:chExt cx="754920" cy="44712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5042160" y="475992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4986360" y="475992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5741280" y="4759920"/>
                <a:ext cx="862920" cy="447120"/>
                <a:chOff x="5741280" y="4759920"/>
                <a:chExt cx="862920" cy="44712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5797080" y="475992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5741280" y="475992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6604200" y="4759920"/>
                <a:ext cx="866520" cy="447120"/>
                <a:chOff x="6604200" y="4759920"/>
                <a:chExt cx="866520" cy="44712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6660000" y="475992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6604200" y="475992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7471080" y="4759920"/>
                <a:ext cx="1363320" cy="447120"/>
                <a:chOff x="7471080" y="4759920"/>
                <a:chExt cx="1363320" cy="44712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7526880" y="475992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7471080" y="475992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308520" y="5207040"/>
                <a:ext cx="671760" cy="447120"/>
                <a:chOff x="308520" y="5207040"/>
                <a:chExt cx="671760" cy="44712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364320" y="52070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308520" y="52070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980280" y="5207040"/>
                <a:ext cx="4005720" cy="447120"/>
                <a:chOff x="980280" y="5207040"/>
                <a:chExt cx="4005720" cy="44712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1036080" y="52070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右端面、锥面、外圆等达图纸要求，并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980280" y="52070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4986360" y="5207040"/>
                <a:ext cx="754920" cy="447120"/>
                <a:chOff x="4986360" y="5207040"/>
                <a:chExt cx="754920" cy="44712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5042160" y="52070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4986360" y="52070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5741280" y="5207040"/>
                <a:ext cx="862920" cy="447120"/>
                <a:chOff x="5741280" y="5207040"/>
                <a:chExt cx="862920" cy="44712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5797080" y="52070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5741280" y="52070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6604200" y="5207040"/>
                <a:ext cx="866520" cy="447120"/>
                <a:chOff x="6604200" y="5207040"/>
                <a:chExt cx="866520" cy="44712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6660000" y="52070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6604200" y="52070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7471080" y="5207040"/>
                <a:ext cx="1363320" cy="447120"/>
                <a:chOff x="7471080" y="5207040"/>
                <a:chExt cx="1363320" cy="44712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7526880" y="52070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7471080" y="52070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308520" y="5654160"/>
                <a:ext cx="671760" cy="447120"/>
                <a:chOff x="308520" y="5654160"/>
                <a:chExt cx="671760" cy="44712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364320" y="565416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308520" y="565416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980280" y="5654160"/>
                <a:ext cx="4005720" cy="447120"/>
                <a:chOff x="980280" y="5654160"/>
                <a:chExt cx="4005720" cy="44712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1036080" y="565416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保证总长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980280" y="565416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4986360" y="5654160"/>
                <a:ext cx="754920" cy="447120"/>
                <a:chOff x="4986360" y="5654160"/>
                <a:chExt cx="754920" cy="44712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5042160" y="565416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986360" y="565416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0" name=""/>
              <p:cNvGrpSpPr/>
              <p:nvPr/>
            </p:nvGrpSpPr>
            <p:grpSpPr>
              <a:xfrm>
                <a:off x="5741280" y="5654160"/>
                <a:ext cx="862920" cy="447120"/>
                <a:chOff x="5741280" y="5654160"/>
                <a:chExt cx="862920" cy="44712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5797080" y="565416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5741280" y="565416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3" name=""/>
              <p:cNvGrpSpPr/>
              <p:nvPr/>
            </p:nvGrpSpPr>
            <p:grpSpPr>
              <a:xfrm>
                <a:off x="6604200" y="5654160"/>
                <a:ext cx="866520" cy="447120"/>
                <a:chOff x="6604200" y="5654160"/>
                <a:chExt cx="866520" cy="44712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6660000" y="565416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6604200" y="565416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6" name=""/>
              <p:cNvGrpSpPr/>
              <p:nvPr/>
            </p:nvGrpSpPr>
            <p:grpSpPr>
              <a:xfrm>
                <a:off x="7471080" y="5654160"/>
                <a:ext cx="1363320" cy="447120"/>
                <a:chOff x="7471080" y="5654160"/>
                <a:chExt cx="1363320" cy="44712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7526880" y="565416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7471080" y="565416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308520" y="6101640"/>
                <a:ext cx="671760" cy="447120"/>
                <a:chOff x="308520" y="6101640"/>
                <a:chExt cx="671760" cy="44712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364320" y="61016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308520" y="61016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980280" y="6101640"/>
                <a:ext cx="4005720" cy="447120"/>
                <a:chOff x="980280" y="6101640"/>
                <a:chExt cx="4005720" cy="44712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1036080" y="61016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980280" y="61016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4986360" y="6101640"/>
                <a:ext cx="754920" cy="447120"/>
                <a:chOff x="4986360" y="6101640"/>
                <a:chExt cx="754920" cy="44712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5042160" y="61016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4986360" y="61016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5741280" y="6101640"/>
                <a:ext cx="862920" cy="447120"/>
                <a:chOff x="5741280" y="6101640"/>
                <a:chExt cx="862920" cy="44712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5797080" y="61016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5741280" y="61016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6604200" y="6101640"/>
                <a:ext cx="866520" cy="447120"/>
                <a:chOff x="6604200" y="6101640"/>
                <a:chExt cx="866520" cy="44712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6660000" y="61016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6604200" y="61016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7471080" y="6101640"/>
                <a:ext cx="1363320" cy="447120"/>
                <a:chOff x="7471080" y="6101640"/>
                <a:chExt cx="1363320" cy="44712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7526880" y="61016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7471080" y="61016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7" name=""/>
            <p:cNvSpPr/>
            <p:nvPr/>
          </p:nvSpPr>
          <p:spPr>
            <a:xfrm>
              <a:off x="304920" y="1600200"/>
              <a:ext cx="8534160" cy="49528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1063800" y="21096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347760" y="1098720"/>
            <a:ext cx="8280360" cy="497196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1152360" y="198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"/>
          <p:cNvGrpSpPr/>
          <p:nvPr/>
        </p:nvGrpSpPr>
        <p:grpSpPr>
          <a:xfrm>
            <a:off x="324000" y="981000"/>
            <a:ext cx="8534160" cy="5029200"/>
            <a:chOff x="324000" y="981000"/>
            <a:chExt cx="8534160" cy="5029200"/>
          </a:xfrm>
        </p:grpSpPr>
        <p:grpSp>
          <p:nvGrpSpPr>
            <p:cNvPr id="454" name=""/>
            <p:cNvGrpSpPr/>
            <p:nvPr/>
          </p:nvGrpSpPr>
          <p:grpSpPr>
            <a:xfrm>
              <a:off x="327600" y="984600"/>
              <a:ext cx="8526240" cy="5021280"/>
              <a:chOff x="327600" y="984600"/>
              <a:chExt cx="8526240" cy="5021280"/>
            </a:xfrm>
          </p:grpSpPr>
          <p:grpSp>
            <p:nvGrpSpPr>
              <p:cNvPr id="455" name=""/>
              <p:cNvGrpSpPr/>
              <p:nvPr/>
            </p:nvGrpSpPr>
            <p:grpSpPr>
              <a:xfrm>
                <a:off x="327600" y="984600"/>
                <a:ext cx="545760" cy="857160"/>
                <a:chOff x="327600" y="984600"/>
                <a:chExt cx="545760" cy="85716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382320" y="984600"/>
                  <a:ext cx="4359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327600" y="984600"/>
                  <a:ext cx="5457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873360" y="984600"/>
                <a:ext cx="4174560" cy="857160"/>
                <a:chOff x="873360" y="984600"/>
                <a:chExt cx="4174560" cy="85716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928080" y="984600"/>
                  <a:ext cx="40647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873360" y="984600"/>
                  <a:ext cx="41745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5048280" y="984600"/>
                <a:ext cx="2442240" cy="416160"/>
                <a:chOff x="5048280" y="984600"/>
                <a:chExt cx="2442240" cy="41616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5103000" y="984600"/>
                  <a:ext cx="23328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5048280" y="984600"/>
                  <a:ext cx="24422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"/>
              <p:cNvGrpSpPr/>
              <p:nvPr/>
            </p:nvGrpSpPr>
            <p:grpSpPr>
              <a:xfrm>
                <a:off x="7490880" y="984600"/>
                <a:ext cx="1362960" cy="857160"/>
                <a:chOff x="7490880" y="984600"/>
                <a:chExt cx="1362960" cy="85716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7545600" y="984600"/>
                  <a:ext cx="12531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7490880" y="984600"/>
                  <a:ext cx="13629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5048280" y="1400760"/>
                <a:ext cx="739440" cy="440640"/>
                <a:chOff x="5048280" y="1400760"/>
                <a:chExt cx="739440" cy="44064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5103000" y="1400760"/>
                  <a:ext cx="62964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5048280" y="1400760"/>
                  <a:ext cx="73944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5787720" y="1400760"/>
                <a:ext cx="851400" cy="440640"/>
                <a:chOff x="5787720" y="1400760"/>
                <a:chExt cx="851400" cy="44064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5842440" y="1400760"/>
                  <a:ext cx="7416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5787720" y="1400760"/>
                  <a:ext cx="85140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6639480" y="1400760"/>
                <a:ext cx="851400" cy="440640"/>
                <a:chOff x="6639480" y="1400760"/>
                <a:chExt cx="851400" cy="44064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6694200" y="1400760"/>
                  <a:ext cx="7416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639480" y="1400760"/>
                  <a:ext cx="85140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327600" y="1841760"/>
                <a:ext cx="545760" cy="416160"/>
                <a:chOff x="327600" y="1841760"/>
                <a:chExt cx="545760" cy="41616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382320" y="18417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327600" y="18417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873360" y="1841760"/>
                <a:ext cx="4174560" cy="416160"/>
                <a:chOff x="873360" y="1841760"/>
                <a:chExt cx="4174560" cy="41616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928080" y="18417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棒料外圆，伸出长度约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873360" y="18417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5048280" y="1841760"/>
                <a:ext cx="739440" cy="416160"/>
                <a:chOff x="5048280" y="1841760"/>
                <a:chExt cx="739440" cy="41616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5103000" y="18417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5048280" y="18417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5787720" y="1841760"/>
                <a:ext cx="851400" cy="416160"/>
                <a:chOff x="5787720" y="1841760"/>
                <a:chExt cx="851400" cy="41616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5842440" y="18417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5787720" y="18417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6639480" y="1841760"/>
                <a:ext cx="851400" cy="416160"/>
                <a:chOff x="6639480" y="1841760"/>
                <a:chExt cx="851400" cy="41616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6694200" y="18417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6639480" y="18417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7490880" y="1841760"/>
                <a:ext cx="1362960" cy="416160"/>
                <a:chOff x="7490880" y="1841760"/>
                <a:chExt cx="1362960" cy="41616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7545600" y="18417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7490880" y="18417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327600" y="2257920"/>
                <a:ext cx="545760" cy="416160"/>
                <a:chOff x="327600" y="2257920"/>
                <a:chExt cx="545760" cy="41616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382320" y="225792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327600" y="225792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873360" y="2257920"/>
                <a:ext cx="4174560" cy="416160"/>
                <a:chOff x="873360" y="2257920"/>
                <a:chExt cx="4174560" cy="41616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928080" y="225792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各部分，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873360" y="225792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5048280" y="2257920"/>
                <a:ext cx="739440" cy="416160"/>
                <a:chOff x="5048280" y="2257920"/>
                <a:chExt cx="739440" cy="41616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5103000" y="225792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5048280" y="225792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5787720" y="2257920"/>
                <a:ext cx="851400" cy="416160"/>
                <a:chOff x="5787720" y="2257920"/>
                <a:chExt cx="851400" cy="41616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5842440" y="22579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5787720" y="22579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6639480" y="2257920"/>
                <a:ext cx="851400" cy="416160"/>
                <a:chOff x="6639480" y="2257920"/>
                <a:chExt cx="851400" cy="41616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6694200" y="22579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6639480" y="22579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7490880" y="2257920"/>
                <a:ext cx="1362960" cy="416160"/>
                <a:chOff x="7490880" y="2257920"/>
                <a:chExt cx="1362960" cy="41616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7545600" y="225792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7490880" y="225792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327600" y="2674440"/>
                <a:ext cx="545760" cy="416160"/>
                <a:chOff x="327600" y="2674440"/>
                <a:chExt cx="545760" cy="41616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382320" y="267444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327600" y="267444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873360" y="2674440"/>
                <a:ext cx="4174560" cy="416160"/>
                <a:chOff x="873360" y="2674440"/>
                <a:chExt cx="4174560" cy="41616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928080" y="267444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、锥面、圆弧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873360" y="267444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" name=""/>
              <p:cNvGrpSpPr/>
              <p:nvPr/>
            </p:nvGrpSpPr>
            <p:grpSpPr>
              <a:xfrm>
                <a:off x="5048280" y="2674440"/>
                <a:ext cx="739440" cy="416160"/>
                <a:chOff x="5048280" y="2674440"/>
                <a:chExt cx="739440" cy="41616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5103000" y="267444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5048280" y="267444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5787720" y="2674440"/>
                <a:ext cx="851400" cy="416160"/>
                <a:chOff x="5787720" y="2674440"/>
                <a:chExt cx="851400" cy="41616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5842440" y="267444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5787720" y="267444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6639480" y="2674440"/>
                <a:ext cx="851400" cy="416160"/>
                <a:chOff x="6639480" y="2674440"/>
                <a:chExt cx="851400" cy="41616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6694200" y="267444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6639480" y="267444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7490880" y="2674440"/>
                <a:ext cx="1362960" cy="416160"/>
                <a:chOff x="7490880" y="2674440"/>
                <a:chExt cx="1362960" cy="41616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7545600" y="267444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7490880" y="267444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327600" y="3090960"/>
                <a:ext cx="545760" cy="416160"/>
                <a:chOff x="327600" y="3090960"/>
                <a:chExt cx="545760" cy="41616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382320" y="30909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327600" y="30909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873360" y="3090960"/>
                <a:ext cx="4174560" cy="416160"/>
                <a:chOff x="873360" y="3090960"/>
                <a:chExt cx="4174560" cy="41616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928080" y="30909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退至换刀点换切刀，切槽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x1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873360" y="30909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6" name=""/>
              <p:cNvGrpSpPr/>
              <p:nvPr/>
            </p:nvGrpSpPr>
            <p:grpSpPr>
              <a:xfrm>
                <a:off x="5048280" y="3090960"/>
                <a:ext cx="739440" cy="416160"/>
                <a:chOff x="5048280" y="3090960"/>
                <a:chExt cx="739440" cy="41616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5103000" y="30909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5048280" y="30909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9" name=""/>
              <p:cNvGrpSpPr/>
              <p:nvPr/>
            </p:nvGrpSpPr>
            <p:grpSpPr>
              <a:xfrm>
                <a:off x="5787720" y="3090960"/>
                <a:ext cx="851400" cy="416160"/>
                <a:chOff x="5787720" y="3090960"/>
                <a:chExt cx="851400" cy="416160"/>
              </a:xfrm>
            </p:grpSpPr>
            <p:sp>
              <p:nvSpPr>
                <p:cNvPr id="540" name=""/>
                <p:cNvSpPr/>
                <p:nvPr/>
              </p:nvSpPr>
              <p:spPr>
                <a:xfrm>
                  <a:off x="5842440" y="30909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5787720" y="30909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2" name=""/>
              <p:cNvGrpSpPr/>
              <p:nvPr/>
            </p:nvGrpSpPr>
            <p:grpSpPr>
              <a:xfrm>
                <a:off x="6639480" y="3090960"/>
                <a:ext cx="851400" cy="416160"/>
                <a:chOff x="6639480" y="3090960"/>
                <a:chExt cx="851400" cy="41616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6694200" y="30909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6639480" y="30909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5" name=""/>
              <p:cNvGrpSpPr/>
              <p:nvPr/>
            </p:nvGrpSpPr>
            <p:grpSpPr>
              <a:xfrm>
                <a:off x="7490880" y="3090960"/>
                <a:ext cx="1362960" cy="416160"/>
                <a:chOff x="7490880" y="3090960"/>
                <a:chExt cx="1362960" cy="41616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7545600" y="30909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7490880" y="30909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327600" y="3507480"/>
                <a:ext cx="545760" cy="416160"/>
                <a:chOff x="327600" y="3507480"/>
                <a:chExt cx="545760" cy="41616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382320" y="350748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327600" y="350748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1" name=""/>
              <p:cNvGrpSpPr/>
              <p:nvPr/>
            </p:nvGrpSpPr>
            <p:grpSpPr>
              <a:xfrm>
                <a:off x="873360" y="3507480"/>
                <a:ext cx="4174560" cy="416160"/>
                <a:chOff x="873360" y="3507480"/>
                <a:chExt cx="4174560" cy="41616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928080" y="350748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退至换刀点，换螺纹刀，加工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12x1.25-7g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螺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73360" y="350748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" name=""/>
              <p:cNvGrpSpPr/>
              <p:nvPr/>
            </p:nvGrpSpPr>
            <p:grpSpPr>
              <a:xfrm>
                <a:off x="5048280" y="3507480"/>
                <a:ext cx="739440" cy="416160"/>
                <a:chOff x="5048280" y="3507480"/>
                <a:chExt cx="739440" cy="41616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5103000" y="350748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5048280" y="350748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5787720" y="3507480"/>
                <a:ext cx="851400" cy="416160"/>
                <a:chOff x="5787720" y="3507480"/>
                <a:chExt cx="851400" cy="41616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5842440" y="35074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5787720" y="35074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6639480" y="3507480"/>
                <a:ext cx="851400" cy="416160"/>
                <a:chOff x="6639480" y="3507480"/>
                <a:chExt cx="851400" cy="41616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6694200" y="35074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6639480" y="35074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3" name=""/>
              <p:cNvGrpSpPr/>
              <p:nvPr/>
            </p:nvGrpSpPr>
            <p:grpSpPr>
              <a:xfrm>
                <a:off x="7490880" y="3507480"/>
                <a:ext cx="1362960" cy="416160"/>
                <a:chOff x="7490880" y="3507480"/>
                <a:chExt cx="1362960" cy="416160"/>
              </a:xfrm>
            </p:grpSpPr>
            <p:sp>
              <p:nvSpPr>
                <p:cNvPr id="564" name=""/>
                <p:cNvSpPr/>
                <p:nvPr/>
              </p:nvSpPr>
              <p:spPr>
                <a:xfrm>
                  <a:off x="7545600" y="350748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7490880" y="350748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6" name=""/>
              <p:cNvGrpSpPr/>
              <p:nvPr/>
            </p:nvGrpSpPr>
            <p:grpSpPr>
              <a:xfrm>
                <a:off x="327600" y="3924000"/>
                <a:ext cx="545760" cy="416160"/>
                <a:chOff x="327600" y="3924000"/>
                <a:chExt cx="545760" cy="416160"/>
              </a:xfrm>
            </p:grpSpPr>
            <p:sp>
              <p:nvSpPr>
                <p:cNvPr id="567" name=""/>
                <p:cNvSpPr/>
                <p:nvPr/>
              </p:nvSpPr>
              <p:spPr>
                <a:xfrm>
                  <a:off x="382320" y="392400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327600" y="392400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" name=""/>
              <p:cNvGrpSpPr/>
              <p:nvPr/>
            </p:nvGrpSpPr>
            <p:grpSpPr>
              <a:xfrm>
                <a:off x="873360" y="3924000"/>
                <a:ext cx="4174560" cy="416160"/>
                <a:chOff x="873360" y="3924000"/>
                <a:chExt cx="4174560" cy="41616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928080" y="392400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纹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873360" y="392400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2" name=""/>
              <p:cNvGrpSpPr/>
              <p:nvPr/>
            </p:nvGrpSpPr>
            <p:grpSpPr>
              <a:xfrm>
                <a:off x="5048280" y="3924000"/>
                <a:ext cx="739440" cy="416160"/>
                <a:chOff x="5048280" y="3924000"/>
                <a:chExt cx="739440" cy="416160"/>
              </a:xfrm>
            </p:grpSpPr>
            <p:sp>
              <p:nvSpPr>
                <p:cNvPr id="573" name=""/>
                <p:cNvSpPr/>
                <p:nvPr/>
              </p:nvSpPr>
              <p:spPr>
                <a:xfrm>
                  <a:off x="5103000" y="392400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5048280" y="392400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5" name=""/>
              <p:cNvGrpSpPr/>
              <p:nvPr/>
            </p:nvGrpSpPr>
            <p:grpSpPr>
              <a:xfrm>
                <a:off x="5787720" y="3924000"/>
                <a:ext cx="851400" cy="416160"/>
                <a:chOff x="5787720" y="3924000"/>
                <a:chExt cx="851400" cy="41616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5842440" y="39240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5787720" y="39240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8" name=""/>
              <p:cNvGrpSpPr/>
              <p:nvPr/>
            </p:nvGrpSpPr>
            <p:grpSpPr>
              <a:xfrm>
                <a:off x="6639480" y="3924000"/>
                <a:ext cx="851400" cy="416160"/>
                <a:chOff x="6639480" y="3924000"/>
                <a:chExt cx="851400" cy="416160"/>
              </a:xfrm>
            </p:grpSpPr>
            <p:sp>
              <p:nvSpPr>
                <p:cNvPr id="579" name=""/>
                <p:cNvSpPr/>
                <p:nvPr/>
              </p:nvSpPr>
              <p:spPr>
                <a:xfrm>
                  <a:off x="6694200" y="39240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6639480" y="39240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1" name=""/>
              <p:cNvGrpSpPr/>
              <p:nvPr/>
            </p:nvGrpSpPr>
            <p:grpSpPr>
              <a:xfrm>
                <a:off x="7490880" y="3924000"/>
                <a:ext cx="1362960" cy="416160"/>
                <a:chOff x="7490880" y="3924000"/>
                <a:chExt cx="1362960" cy="41616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7545600" y="392400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7490880" y="392400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4" name=""/>
              <p:cNvGrpSpPr/>
              <p:nvPr/>
            </p:nvGrpSpPr>
            <p:grpSpPr>
              <a:xfrm>
                <a:off x="327600" y="4340160"/>
                <a:ext cx="545760" cy="416160"/>
                <a:chOff x="327600" y="4340160"/>
                <a:chExt cx="545760" cy="416160"/>
              </a:xfrm>
            </p:grpSpPr>
            <p:sp>
              <p:nvSpPr>
                <p:cNvPr id="585" name=""/>
                <p:cNvSpPr/>
                <p:nvPr/>
              </p:nvSpPr>
              <p:spPr>
                <a:xfrm>
                  <a:off x="382320" y="43401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327600" y="43401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7" name=""/>
              <p:cNvGrpSpPr/>
              <p:nvPr/>
            </p:nvGrpSpPr>
            <p:grpSpPr>
              <a:xfrm>
                <a:off x="873360" y="4340160"/>
                <a:ext cx="4174560" cy="416160"/>
                <a:chOff x="873360" y="4340160"/>
                <a:chExt cx="4174560" cy="416160"/>
              </a:xfrm>
            </p:grpSpPr>
            <p:sp>
              <p:nvSpPr>
                <p:cNvPr id="588" name=""/>
                <p:cNvSpPr/>
                <p:nvPr/>
              </p:nvSpPr>
              <p:spPr>
                <a:xfrm>
                  <a:off x="928080" y="43401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切断并保证总长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.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873360" y="43401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" name=""/>
              <p:cNvGrpSpPr/>
              <p:nvPr/>
            </p:nvGrpSpPr>
            <p:grpSpPr>
              <a:xfrm>
                <a:off x="5048280" y="4340160"/>
                <a:ext cx="739440" cy="416160"/>
                <a:chOff x="5048280" y="4340160"/>
                <a:chExt cx="739440" cy="416160"/>
              </a:xfrm>
            </p:grpSpPr>
            <p:sp>
              <p:nvSpPr>
                <p:cNvPr id="591" name=""/>
                <p:cNvSpPr/>
                <p:nvPr/>
              </p:nvSpPr>
              <p:spPr>
                <a:xfrm>
                  <a:off x="5103000" y="43401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5048280" y="43401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3" name=""/>
              <p:cNvGrpSpPr/>
              <p:nvPr/>
            </p:nvGrpSpPr>
            <p:grpSpPr>
              <a:xfrm>
                <a:off x="5787720" y="4340160"/>
                <a:ext cx="851400" cy="416160"/>
                <a:chOff x="5787720" y="4340160"/>
                <a:chExt cx="851400" cy="416160"/>
              </a:xfrm>
            </p:grpSpPr>
            <p:sp>
              <p:nvSpPr>
                <p:cNvPr id="594" name=""/>
                <p:cNvSpPr/>
                <p:nvPr/>
              </p:nvSpPr>
              <p:spPr>
                <a:xfrm>
                  <a:off x="5842440" y="43401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5787720" y="43401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6" name=""/>
              <p:cNvGrpSpPr/>
              <p:nvPr/>
            </p:nvGrpSpPr>
            <p:grpSpPr>
              <a:xfrm>
                <a:off x="6639480" y="4340160"/>
                <a:ext cx="851400" cy="416160"/>
                <a:chOff x="6639480" y="4340160"/>
                <a:chExt cx="851400" cy="416160"/>
              </a:xfrm>
            </p:grpSpPr>
            <p:sp>
              <p:nvSpPr>
                <p:cNvPr id="597" name=""/>
                <p:cNvSpPr/>
                <p:nvPr/>
              </p:nvSpPr>
              <p:spPr>
                <a:xfrm>
                  <a:off x="6694200" y="43401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6639480" y="43401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7490880" y="4340160"/>
                <a:ext cx="1362960" cy="416160"/>
                <a:chOff x="7490880" y="4340160"/>
                <a:chExt cx="1362960" cy="41616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7545600" y="43401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7490880" y="43401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2" name=""/>
              <p:cNvGrpSpPr/>
              <p:nvPr/>
            </p:nvGrpSpPr>
            <p:grpSpPr>
              <a:xfrm>
                <a:off x="327600" y="4756680"/>
                <a:ext cx="545760" cy="416160"/>
                <a:chOff x="327600" y="4756680"/>
                <a:chExt cx="545760" cy="416160"/>
              </a:xfrm>
            </p:grpSpPr>
            <p:sp>
              <p:nvSpPr>
                <p:cNvPr id="603" name=""/>
                <p:cNvSpPr/>
                <p:nvPr/>
              </p:nvSpPr>
              <p:spPr>
                <a:xfrm>
                  <a:off x="382320" y="475668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327600" y="475668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5" name=""/>
              <p:cNvGrpSpPr/>
              <p:nvPr/>
            </p:nvGrpSpPr>
            <p:grpSpPr>
              <a:xfrm>
                <a:off x="873360" y="4756680"/>
                <a:ext cx="4174560" cy="416160"/>
                <a:chOff x="873360" y="4756680"/>
                <a:chExt cx="4174560" cy="416160"/>
              </a:xfrm>
            </p:grpSpPr>
            <p:sp>
              <p:nvSpPr>
                <p:cNvPr id="606" name=""/>
                <p:cNvSpPr/>
                <p:nvPr/>
              </p:nvSpPr>
              <p:spPr>
                <a:xfrm>
                  <a:off x="928080" y="475668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车左端面保证总长尺寸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873360" y="475668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8" name=""/>
              <p:cNvGrpSpPr/>
              <p:nvPr/>
            </p:nvGrpSpPr>
            <p:grpSpPr>
              <a:xfrm>
                <a:off x="5048280" y="4756680"/>
                <a:ext cx="739440" cy="416160"/>
                <a:chOff x="5048280" y="4756680"/>
                <a:chExt cx="739440" cy="416160"/>
              </a:xfrm>
            </p:grpSpPr>
            <p:sp>
              <p:nvSpPr>
                <p:cNvPr id="609" name=""/>
                <p:cNvSpPr/>
                <p:nvPr/>
              </p:nvSpPr>
              <p:spPr>
                <a:xfrm>
                  <a:off x="5103000" y="475668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5048280" y="475668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1" name=""/>
              <p:cNvGrpSpPr/>
              <p:nvPr/>
            </p:nvGrpSpPr>
            <p:grpSpPr>
              <a:xfrm>
                <a:off x="5787720" y="4756680"/>
                <a:ext cx="851400" cy="416160"/>
                <a:chOff x="5787720" y="4756680"/>
                <a:chExt cx="851400" cy="41616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5842440" y="47566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5787720" y="47566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4" name=""/>
              <p:cNvGrpSpPr/>
              <p:nvPr/>
            </p:nvGrpSpPr>
            <p:grpSpPr>
              <a:xfrm>
                <a:off x="6639480" y="4756680"/>
                <a:ext cx="851400" cy="416160"/>
                <a:chOff x="6639480" y="4756680"/>
                <a:chExt cx="851400" cy="41616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6694200" y="47566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6639480" y="47566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7" name=""/>
              <p:cNvGrpSpPr/>
              <p:nvPr/>
            </p:nvGrpSpPr>
            <p:grpSpPr>
              <a:xfrm>
                <a:off x="7490880" y="4756680"/>
                <a:ext cx="1362960" cy="416160"/>
                <a:chOff x="7490880" y="4756680"/>
                <a:chExt cx="1362960" cy="41616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7545600" y="475668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7490880" y="475668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0" name=""/>
              <p:cNvGrpSpPr/>
              <p:nvPr/>
            </p:nvGrpSpPr>
            <p:grpSpPr>
              <a:xfrm>
                <a:off x="327600" y="5173200"/>
                <a:ext cx="545760" cy="416160"/>
                <a:chOff x="327600" y="5173200"/>
                <a:chExt cx="545760" cy="41616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382320" y="517320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327600" y="517320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873360" y="5173200"/>
                <a:ext cx="4174560" cy="416160"/>
                <a:chOff x="873360" y="5173200"/>
                <a:chExt cx="4174560" cy="41616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928080" y="517320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873360" y="517320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6" name=""/>
              <p:cNvGrpSpPr/>
              <p:nvPr/>
            </p:nvGrpSpPr>
            <p:grpSpPr>
              <a:xfrm>
                <a:off x="5048280" y="5173200"/>
                <a:ext cx="739440" cy="416160"/>
                <a:chOff x="5048280" y="5173200"/>
                <a:chExt cx="739440" cy="416160"/>
              </a:xfrm>
            </p:grpSpPr>
            <p:sp>
              <p:nvSpPr>
                <p:cNvPr id="627" name=""/>
                <p:cNvSpPr/>
                <p:nvPr/>
              </p:nvSpPr>
              <p:spPr>
                <a:xfrm>
                  <a:off x="5103000" y="517320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5048280" y="517320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9" name=""/>
              <p:cNvGrpSpPr/>
              <p:nvPr/>
            </p:nvGrpSpPr>
            <p:grpSpPr>
              <a:xfrm>
                <a:off x="5787720" y="5173200"/>
                <a:ext cx="851400" cy="416160"/>
                <a:chOff x="5787720" y="5173200"/>
                <a:chExt cx="851400" cy="41616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5842440" y="51732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5787720" y="51732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2" name=""/>
              <p:cNvGrpSpPr/>
              <p:nvPr/>
            </p:nvGrpSpPr>
            <p:grpSpPr>
              <a:xfrm>
                <a:off x="6639480" y="5173200"/>
                <a:ext cx="851400" cy="416160"/>
                <a:chOff x="6639480" y="5173200"/>
                <a:chExt cx="851400" cy="41616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6694200" y="51732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6639480" y="51732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7490880" y="5173200"/>
                <a:ext cx="1362960" cy="416160"/>
                <a:chOff x="7490880" y="5173200"/>
                <a:chExt cx="1362960" cy="41616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7545600" y="517320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7490880" y="517320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8" name=""/>
              <p:cNvGrpSpPr/>
              <p:nvPr/>
            </p:nvGrpSpPr>
            <p:grpSpPr>
              <a:xfrm>
                <a:off x="327600" y="5589720"/>
                <a:ext cx="545760" cy="416160"/>
                <a:chOff x="327600" y="5589720"/>
                <a:chExt cx="545760" cy="416160"/>
              </a:xfrm>
            </p:grpSpPr>
            <p:sp>
              <p:nvSpPr>
                <p:cNvPr id="639" name=""/>
                <p:cNvSpPr/>
                <p:nvPr/>
              </p:nvSpPr>
              <p:spPr>
                <a:xfrm>
                  <a:off x="382320" y="558972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327600" y="558972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1" name=""/>
              <p:cNvGrpSpPr/>
              <p:nvPr/>
            </p:nvGrpSpPr>
            <p:grpSpPr>
              <a:xfrm>
                <a:off x="873360" y="5589720"/>
                <a:ext cx="4174560" cy="416160"/>
                <a:chOff x="873360" y="5589720"/>
                <a:chExt cx="4174560" cy="41616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928080" y="558972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873360" y="558972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4" name=""/>
              <p:cNvGrpSpPr/>
              <p:nvPr/>
            </p:nvGrpSpPr>
            <p:grpSpPr>
              <a:xfrm>
                <a:off x="5048280" y="5589720"/>
                <a:ext cx="739440" cy="416160"/>
                <a:chOff x="5048280" y="5589720"/>
                <a:chExt cx="739440" cy="416160"/>
              </a:xfrm>
            </p:grpSpPr>
            <p:sp>
              <p:nvSpPr>
                <p:cNvPr id="645" name=""/>
                <p:cNvSpPr/>
                <p:nvPr/>
              </p:nvSpPr>
              <p:spPr>
                <a:xfrm>
                  <a:off x="5103000" y="558972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5048280" y="558972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7" name=""/>
              <p:cNvGrpSpPr/>
              <p:nvPr/>
            </p:nvGrpSpPr>
            <p:grpSpPr>
              <a:xfrm>
                <a:off x="5787720" y="5589720"/>
                <a:ext cx="851400" cy="416160"/>
                <a:chOff x="5787720" y="5589720"/>
                <a:chExt cx="851400" cy="41616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5842440" y="55897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5787720" y="55897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0" name=""/>
              <p:cNvGrpSpPr/>
              <p:nvPr/>
            </p:nvGrpSpPr>
            <p:grpSpPr>
              <a:xfrm>
                <a:off x="6639480" y="5589720"/>
                <a:ext cx="851400" cy="416160"/>
                <a:chOff x="6639480" y="5589720"/>
                <a:chExt cx="851400" cy="416160"/>
              </a:xfrm>
            </p:grpSpPr>
            <p:sp>
              <p:nvSpPr>
                <p:cNvPr id="651" name=""/>
                <p:cNvSpPr/>
                <p:nvPr/>
              </p:nvSpPr>
              <p:spPr>
                <a:xfrm>
                  <a:off x="6694200" y="55897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6639480" y="55897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3" name=""/>
              <p:cNvGrpSpPr/>
              <p:nvPr/>
            </p:nvGrpSpPr>
            <p:grpSpPr>
              <a:xfrm>
                <a:off x="7490880" y="5589720"/>
                <a:ext cx="1362960" cy="416160"/>
                <a:chOff x="7490880" y="5589720"/>
                <a:chExt cx="1362960" cy="41616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7545600" y="558972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7490880" y="558972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6" name=""/>
            <p:cNvSpPr/>
            <p:nvPr/>
          </p:nvSpPr>
          <p:spPr>
            <a:xfrm>
              <a:off x="324000" y="981000"/>
              <a:ext cx="8534160" cy="5029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1065240" y="16020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" descr=""/>
          <p:cNvPicPr/>
          <p:nvPr/>
        </p:nvPicPr>
        <p:blipFill>
          <a:blip r:embed="rId2"/>
          <a:stretch/>
        </p:blipFill>
        <p:spPr>
          <a:xfrm>
            <a:off x="603360" y="1098720"/>
            <a:ext cx="7848360" cy="539568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1025640" y="19836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"/>
          <p:cNvGrpSpPr/>
          <p:nvPr/>
        </p:nvGrpSpPr>
        <p:grpSpPr>
          <a:xfrm>
            <a:off x="250920" y="1125360"/>
            <a:ext cx="8534160" cy="4876920"/>
            <a:chOff x="250920" y="1125360"/>
            <a:chExt cx="8534160" cy="4876920"/>
          </a:xfrm>
        </p:grpSpPr>
        <p:grpSp>
          <p:nvGrpSpPr>
            <p:cNvPr id="663" name=""/>
            <p:cNvGrpSpPr/>
            <p:nvPr/>
          </p:nvGrpSpPr>
          <p:grpSpPr>
            <a:xfrm>
              <a:off x="254520" y="1127880"/>
              <a:ext cx="8526240" cy="4871160"/>
              <a:chOff x="254520" y="1127880"/>
              <a:chExt cx="8526240" cy="4871160"/>
            </a:xfrm>
          </p:grpSpPr>
          <p:grpSp>
            <p:nvGrpSpPr>
              <p:cNvPr id="664" name=""/>
              <p:cNvGrpSpPr/>
              <p:nvPr/>
            </p:nvGrpSpPr>
            <p:grpSpPr>
              <a:xfrm>
                <a:off x="254520" y="1127880"/>
                <a:ext cx="545040" cy="624240"/>
                <a:chOff x="254520" y="1127880"/>
                <a:chExt cx="545040" cy="624240"/>
              </a:xfrm>
            </p:grpSpPr>
            <p:sp>
              <p:nvSpPr>
                <p:cNvPr id="665" name=""/>
                <p:cNvSpPr/>
                <p:nvPr/>
              </p:nvSpPr>
              <p:spPr>
                <a:xfrm>
                  <a:off x="309240" y="1127880"/>
                  <a:ext cx="4356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254520" y="1127880"/>
                  <a:ext cx="54504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7" name=""/>
              <p:cNvGrpSpPr/>
              <p:nvPr/>
            </p:nvGrpSpPr>
            <p:grpSpPr>
              <a:xfrm>
                <a:off x="799560" y="1127880"/>
                <a:ext cx="4176000" cy="624240"/>
                <a:chOff x="799560" y="1127880"/>
                <a:chExt cx="4176000" cy="624240"/>
              </a:xfrm>
            </p:grpSpPr>
            <p:sp>
              <p:nvSpPr>
                <p:cNvPr id="668" name=""/>
                <p:cNvSpPr/>
                <p:nvPr/>
              </p:nvSpPr>
              <p:spPr>
                <a:xfrm>
                  <a:off x="854280" y="1127880"/>
                  <a:ext cx="406656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799560" y="1127880"/>
                  <a:ext cx="417600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0" name=""/>
              <p:cNvGrpSpPr/>
              <p:nvPr/>
            </p:nvGrpSpPr>
            <p:grpSpPr>
              <a:xfrm>
                <a:off x="4975920" y="1127880"/>
                <a:ext cx="2441160" cy="303120"/>
                <a:chOff x="4975920" y="1127880"/>
                <a:chExt cx="2441160" cy="303120"/>
              </a:xfrm>
            </p:grpSpPr>
            <p:sp>
              <p:nvSpPr>
                <p:cNvPr id="671" name=""/>
                <p:cNvSpPr/>
                <p:nvPr/>
              </p:nvSpPr>
              <p:spPr>
                <a:xfrm>
                  <a:off x="5030640" y="1127880"/>
                  <a:ext cx="233172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4975920" y="1127880"/>
                  <a:ext cx="24411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3" name=""/>
              <p:cNvGrpSpPr/>
              <p:nvPr/>
            </p:nvGrpSpPr>
            <p:grpSpPr>
              <a:xfrm>
                <a:off x="7417080" y="1127880"/>
                <a:ext cx="1363680" cy="624240"/>
                <a:chOff x="7417080" y="1127880"/>
                <a:chExt cx="1363680" cy="624240"/>
              </a:xfrm>
            </p:grpSpPr>
            <p:sp>
              <p:nvSpPr>
                <p:cNvPr id="674" name=""/>
                <p:cNvSpPr/>
                <p:nvPr/>
              </p:nvSpPr>
              <p:spPr>
                <a:xfrm>
                  <a:off x="7471800" y="1127880"/>
                  <a:ext cx="125388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7417080" y="1127880"/>
                  <a:ext cx="136368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6" name=""/>
              <p:cNvGrpSpPr/>
              <p:nvPr/>
            </p:nvGrpSpPr>
            <p:grpSpPr>
              <a:xfrm>
                <a:off x="4975920" y="1431000"/>
                <a:ext cx="738360" cy="320760"/>
                <a:chOff x="4975920" y="1431000"/>
                <a:chExt cx="738360" cy="32076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5030640" y="1431000"/>
                  <a:ext cx="62856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4975920" y="1431000"/>
                  <a:ext cx="73836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9" name=""/>
              <p:cNvGrpSpPr/>
              <p:nvPr/>
            </p:nvGrpSpPr>
            <p:grpSpPr>
              <a:xfrm>
                <a:off x="5714280" y="1431000"/>
                <a:ext cx="851400" cy="320760"/>
                <a:chOff x="5714280" y="1431000"/>
                <a:chExt cx="851400" cy="320760"/>
              </a:xfrm>
            </p:grpSpPr>
            <p:sp>
              <p:nvSpPr>
                <p:cNvPr id="680" name=""/>
                <p:cNvSpPr/>
                <p:nvPr/>
              </p:nvSpPr>
              <p:spPr>
                <a:xfrm>
                  <a:off x="5769000" y="1431000"/>
                  <a:ext cx="74196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5714280" y="1431000"/>
                  <a:ext cx="85140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2" name=""/>
              <p:cNvGrpSpPr/>
              <p:nvPr/>
            </p:nvGrpSpPr>
            <p:grpSpPr>
              <a:xfrm>
                <a:off x="6565680" y="1431000"/>
                <a:ext cx="851040" cy="320760"/>
                <a:chOff x="6565680" y="1431000"/>
                <a:chExt cx="851040" cy="320760"/>
              </a:xfrm>
            </p:grpSpPr>
            <p:sp>
              <p:nvSpPr>
                <p:cNvPr id="683" name=""/>
                <p:cNvSpPr/>
                <p:nvPr/>
              </p:nvSpPr>
              <p:spPr>
                <a:xfrm>
                  <a:off x="6620400" y="1431000"/>
                  <a:ext cx="74160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6565680" y="1431000"/>
                  <a:ext cx="85104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5" name=""/>
              <p:cNvGrpSpPr/>
              <p:nvPr/>
            </p:nvGrpSpPr>
            <p:grpSpPr>
              <a:xfrm>
                <a:off x="254520" y="1752120"/>
                <a:ext cx="545040" cy="303120"/>
                <a:chOff x="254520" y="1752120"/>
                <a:chExt cx="545040" cy="303120"/>
              </a:xfrm>
            </p:grpSpPr>
            <p:sp>
              <p:nvSpPr>
                <p:cNvPr id="686" name=""/>
                <p:cNvSpPr/>
                <p:nvPr/>
              </p:nvSpPr>
              <p:spPr>
                <a:xfrm>
                  <a:off x="309240" y="17521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254520" y="17521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8" name=""/>
              <p:cNvGrpSpPr/>
              <p:nvPr/>
            </p:nvGrpSpPr>
            <p:grpSpPr>
              <a:xfrm>
                <a:off x="799560" y="1752120"/>
                <a:ext cx="4176000" cy="303120"/>
                <a:chOff x="799560" y="1752120"/>
                <a:chExt cx="4176000" cy="303120"/>
              </a:xfrm>
            </p:grpSpPr>
            <p:sp>
              <p:nvSpPr>
                <p:cNvPr id="689" name=""/>
                <p:cNvSpPr/>
                <p:nvPr/>
              </p:nvSpPr>
              <p:spPr>
                <a:xfrm>
                  <a:off x="854280" y="17521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棒料外圆，手动车削两端面，并钻中心孔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3,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799560" y="17521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" name=""/>
              <p:cNvGrpSpPr/>
              <p:nvPr/>
            </p:nvGrpSpPr>
            <p:grpSpPr>
              <a:xfrm>
                <a:off x="4975920" y="1752120"/>
                <a:ext cx="738360" cy="303120"/>
                <a:chOff x="4975920" y="1752120"/>
                <a:chExt cx="738360" cy="30312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5030640" y="17521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4975920" y="17521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4" name=""/>
              <p:cNvGrpSpPr/>
              <p:nvPr/>
            </p:nvGrpSpPr>
            <p:grpSpPr>
              <a:xfrm>
                <a:off x="5714280" y="1752120"/>
                <a:ext cx="851400" cy="303120"/>
                <a:chOff x="5714280" y="1752120"/>
                <a:chExt cx="851400" cy="303120"/>
              </a:xfrm>
            </p:grpSpPr>
            <p:sp>
              <p:nvSpPr>
                <p:cNvPr id="695" name=""/>
                <p:cNvSpPr/>
                <p:nvPr/>
              </p:nvSpPr>
              <p:spPr>
                <a:xfrm>
                  <a:off x="5769000" y="17521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714280" y="17521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7" name=""/>
              <p:cNvGrpSpPr/>
              <p:nvPr/>
            </p:nvGrpSpPr>
            <p:grpSpPr>
              <a:xfrm>
                <a:off x="6565680" y="1752120"/>
                <a:ext cx="851040" cy="303120"/>
                <a:chOff x="6565680" y="1752120"/>
                <a:chExt cx="851040" cy="30312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6620400" y="17521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6565680" y="17521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0" name=""/>
              <p:cNvGrpSpPr/>
              <p:nvPr/>
            </p:nvGrpSpPr>
            <p:grpSpPr>
              <a:xfrm>
                <a:off x="7417080" y="1752120"/>
                <a:ext cx="1363680" cy="303120"/>
                <a:chOff x="7417080" y="1752120"/>
                <a:chExt cx="1363680" cy="303120"/>
              </a:xfrm>
            </p:grpSpPr>
            <p:sp>
              <p:nvSpPr>
                <p:cNvPr id="701" name=""/>
                <p:cNvSpPr/>
                <p:nvPr/>
              </p:nvSpPr>
              <p:spPr>
                <a:xfrm>
                  <a:off x="7471800" y="17521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7417080" y="17521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3" name=""/>
              <p:cNvGrpSpPr/>
              <p:nvPr/>
            </p:nvGrpSpPr>
            <p:grpSpPr>
              <a:xfrm>
                <a:off x="254520" y="2055600"/>
                <a:ext cx="545040" cy="303120"/>
                <a:chOff x="254520" y="2055600"/>
                <a:chExt cx="545040" cy="303120"/>
              </a:xfrm>
            </p:grpSpPr>
            <p:sp>
              <p:nvSpPr>
                <p:cNvPr id="704" name=""/>
                <p:cNvSpPr/>
                <p:nvPr/>
              </p:nvSpPr>
              <p:spPr>
                <a:xfrm>
                  <a:off x="309240" y="20556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254520" y="20556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6" name=""/>
              <p:cNvGrpSpPr/>
              <p:nvPr/>
            </p:nvGrpSpPr>
            <p:grpSpPr>
              <a:xfrm>
                <a:off x="799560" y="2055600"/>
                <a:ext cx="4176000" cy="303120"/>
                <a:chOff x="799560" y="2055600"/>
                <a:chExt cx="4176000" cy="303120"/>
              </a:xfrm>
            </p:grpSpPr>
            <p:sp>
              <p:nvSpPr>
                <p:cNvPr id="707" name=""/>
                <p:cNvSpPr/>
                <p:nvPr/>
              </p:nvSpPr>
              <p:spPr>
                <a:xfrm>
                  <a:off x="854280" y="20556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手动车削一端外圆达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9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长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799560" y="20556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9" name=""/>
              <p:cNvGrpSpPr/>
              <p:nvPr/>
            </p:nvGrpSpPr>
            <p:grpSpPr>
              <a:xfrm>
                <a:off x="4975920" y="2055600"/>
                <a:ext cx="738360" cy="303120"/>
                <a:chOff x="4975920" y="2055600"/>
                <a:chExt cx="738360" cy="303120"/>
              </a:xfrm>
            </p:grpSpPr>
            <p:sp>
              <p:nvSpPr>
                <p:cNvPr id="710" name=""/>
                <p:cNvSpPr/>
                <p:nvPr/>
              </p:nvSpPr>
              <p:spPr>
                <a:xfrm>
                  <a:off x="5030640" y="20556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4975920" y="20556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2" name=""/>
              <p:cNvGrpSpPr/>
              <p:nvPr/>
            </p:nvGrpSpPr>
            <p:grpSpPr>
              <a:xfrm>
                <a:off x="5714280" y="2055600"/>
                <a:ext cx="851400" cy="303120"/>
                <a:chOff x="5714280" y="2055600"/>
                <a:chExt cx="851400" cy="303120"/>
              </a:xfrm>
            </p:grpSpPr>
            <p:sp>
              <p:nvSpPr>
                <p:cNvPr id="713" name=""/>
                <p:cNvSpPr/>
                <p:nvPr/>
              </p:nvSpPr>
              <p:spPr>
                <a:xfrm>
                  <a:off x="5769000" y="20556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5714280" y="20556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5" name=""/>
              <p:cNvGrpSpPr/>
              <p:nvPr/>
            </p:nvGrpSpPr>
            <p:grpSpPr>
              <a:xfrm>
                <a:off x="6565680" y="2055600"/>
                <a:ext cx="851040" cy="303120"/>
                <a:chOff x="6565680" y="2055600"/>
                <a:chExt cx="851040" cy="30312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6620400" y="20556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6565680" y="20556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8" name=""/>
              <p:cNvGrpSpPr/>
              <p:nvPr/>
            </p:nvGrpSpPr>
            <p:grpSpPr>
              <a:xfrm>
                <a:off x="7417080" y="2055600"/>
                <a:ext cx="1363680" cy="303120"/>
                <a:chOff x="7417080" y="2055600"/>
                <a:chExt cx="1363680" cy="303120"/>
              </a:xfrm>
            </p:grpSpPr>
            <p:sp>
              <p:nvSpPr>
                <p:cNvPr id="719" name=""/>
                <p:cNvSpPr/>
                <p:nvPr/>
              </p:nvSpPr>
              <p:spPr>
                <a:xfrm>
                  <a:off x="7471800" y="20556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7417080" y="20556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1" name=""/>
              <p:cNvGrpSpPr/>
              <p:nvPr/>
            </p:nvGrpSpPr>
            <p:grpSpPr>
              <a:xfrm>
                <a:off x="254520" y="2359080"/>
                <a:ext cx="545040" cy="303120"/>
                <a:chOff x="254520" y="2359080"/>
                <a:chExt cx="545040" cy="303120"/>
              </a:xfrm>
            </p:grpSpPr>
            <p:sp>
              <p:nvSpPr>
                <p:cNvPr id="722" name=""/>
                <p:cNvSpPr/>
                <p:nvPr/>
              </p:nvSpPr>
              <p:spPr>
                <a:xfrm>
                  <a:off x="309240" y="235908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254520" y="235908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4" name=""/>
              <p:cNvGrpSpPr/>
              <p:nvPr/>
            </p:nvGrpSpPr>
            <p:grpSpPr>
              <a:xfrm>
                <a:off x="799560" y="2359080"/>
                <a:ext cx="4176000" cy="303120"/>
                <a:chOff x="799560" y="2359080"/>
                <a:chExt cx="4176000" cy="303120"/>
              </a:xfrm>
            </p:grpSpPr>
            <p:sp>
              <p:nvSpPr>
                <p:cNvPr id="725" name=""/>
                <p:cNvSpPr/>
                <p:nvPr/>
              </p:nvSpPr>
              <p:spPr>
                <a:xfrm>
                  <a:off x="854280" y="235908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9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，夹持长度约为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5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，顶另一端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799560" y="235908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7" name=""/>
              <p:cNvGrpSpPr/>
              <p:nvPr/>
            </p:nvGrpSpPr>
            <p:grpSpPr>
              <a:xfrm>
                <a:off x="4975920" y="2359080"/>
                <a:ext cx="738360" cy="303120"/>
                <a:chOff x="4975920" y="2359080"/>
                <a:chExt cx="738360" cy="303120"/>
              </a:xfrm>
            </p:grpSpPr>
            <p:sp>
              <p:nvSpPr>
                <p:cNvPr id="728" name=""/>
                <p:cNvSpPr/>
                <p:nvPr/>
              </p:nvSpPr>
              <p:spPr>
                <a:xfrm>
                  <a:off x="5030640" y="235908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4975920" y="235908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0" name=""/>
              <p:cNvGrpSpPr/>
              <p:nvPr/>
            </p:nvGrpSpPr>
            <p:grpSpPr>
              <a:xfrm>
                <a:off x="5714280" y="2359080"/>
                <a:ext cx="851400" cy="303120"/>
                <a:chOff x="5714280" y="2359080"/>
                <a:chExt cx="851400" cy="303120"/>
              </a:xfrm>
            </p:grpSpPr>
            <p:sp>
              <p:nvSpPr>
                <p:cNvPr id="731" name=""/>
                <p:cNvSpPr/>
                <p:nvPr/>
              </p:nvSpPr>
              <p:spPr>
                <a:xfrm>
                  <a:off x="5769000" y="235908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5714280" y="235908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3" name=""/>
              <p:cNvGrpSpPr/>
              <p:nvPr/>
            </p:nvGrpSpPr>
            <p:grpSpPr>
              <a:xfrm>
                <a:off x="6565680" y="2359080"/>
                <a:ext cx="851040" cy="303120"/>
                <a:chOff x="6565680" y="2359080"/>
                <a:chExt cx="851040" cy="303120"/>
              </a:xfrm>
            </p:grpSpPr>
            <p:sp>
              <p:nvSpPr>
                <p:cNvPr id="734" name=""/>
                <p:cNvSpPr/>
                <p:nvPr/>
              </p:nvSpPr>
              <p:spPr>
                <a:xfrm>
                  <a:off x="6620400" y="235908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6565680" y="235908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6" name=""/>
              <p:cNvGrpSpPr/>
              <p:nvPr/>
            </p:nvGrpSpPr>
            <p:grpSpPr>
              <a:xfrm>
                <a:off x="7417080" y="2359080"/>
                <a:ext cx="1363680" cy="303120"/>
                <a:chOff x="7417080" y="2359080"/>
                <a:chExt cx="1363680" cy="303120"/>
              </a:xfrm>
            </p:grpSpPr>
            <p:sp>
              <p:nvSpPr>
                <p:cNvPr id="737" name=""/>
                <p:cNvSpPr/>
                <p:nvPr/>
              </p:nvSpPr>
              <p:spPr>
                <a:xfrm>
                  <a:off x="7471800" y="235908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7417080" y="235908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9" name=""/>
              <p:cNvGrpSpPr/>
              <p:nvPr/>
            </p:nvGrpSpPr>
            <p:grpSpPr>
              <a:xfrm>
                <a:off x="254520" y="2662200"/>
                <a:ext cx="545040" cy="303120"/>
                <a:chOff x="254520" y="2662200"/>
                <a:chExt cx="545040" cy="30312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309240" y="26622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254520" y="26622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2" name=""/>
              <p:cNvGrpSpPr/>
              <p:nvPr/>
            </p:nvGrpSpPr>
            <p:grpSpPr>
              <a:xfrm>
                <a:off x="799560" y="2662200"/>
                <a:ext cx="4176000" cy="303120"/>
                <a:chOff x="799560" y="2662200"/>
                <a:chExt cx="4176000" cy="303120"/>
              </a:xfrm>
            </p:grpSpPr>
            <p:sp>
              <p:nvSpPr>
                <p:cNvPr id="743" name=""/>
                <p:cNvSpPr/>
                <p:nvPr/>
              </p:nvSpPr>
              <p:spPr>
                <a:xfrm>
                  <a:off x="854280" y="26622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、锥面、倒角等留加工余量单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799560" y="26622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5" name=""/>
              <p:cNvGrpSpPr/>
              <p:nvPr/>
            </p:nvGrpSpPr>
            <p:grpSpPr>
              <a:xfrm>
                <a:off x="4975920" y="2662200"/>
                <a:ext cx="738360" cy="303120"/>
                <a:chOff x="4975920" y="2662200"/>
                <a:chExt cx="738360" cy="303120"/>
              </a:xfrm>
            </p:grpSpPr>
            <p:sp>
              <p:nvSpPr>
                <p:cNvPr id="746" name=""/>
                <p:cNvSpPr/>
                <p:nvPr/>
              </p:nvSpPr>
              <p:spPr>
                <a:xfrm>
                  <a:off x="5030640" y="26622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4975920" y="26622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8" name=""/>
              <p:cNvGrpSpPr/>
              <p:nvPr/>
            </p:nvGrpSpPr>
            <p:grpSpPr>
              <a:xfrm>
                <a:off x="5714280" y="2662200"/>
                <a:ext cx="851400" cy="303120"/>
                <a:chOff x="5714280" y="2662200"/>
                <a:chExt cx="851400" cy="303120"/>
              </a:xfrm>
            </p:grpSpPr>
            <p:sp>
              <p:nvSpPr>
                <p:cNvPr id="749" name=""/>
                <p:cNvSpPr/>
                <p:nvPr/>
              </p:nvSpPr>
              <p:spPr>
                <a:xfrm>
                  <a:off x="5769000" y="26622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5714280" y="26622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1" name=""/>
              <p:cNvGrpSpPr/>
              <p:nvPr/>
            </p:nvGrpSpPr>
            <p:grpSpPr>
              <a:xfrm>
                <a:off x="6565680" y="2662200"/>
                <a:ext cx="851040" cy="303120"/>
                <a:chOff x="6565680" y="2662200"/>
                <a:chExt cx="851040" cy="303120"/>
              </a:xfrm>
            </p:grpSpPr>
            <p:sp>
              <p:nvSpPr>
                <p:cNvPr id="752" name=""/>
                <p:cNvSpPr/>
                <p:nvPr/>
              </p:nvSpPr>
              <p:spPr>
                <a:xfrm>
                  <a:off x="6620400" y="26622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6565680" y="26622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4" name=""/>
              <p:cNvGrpSpPr/>
              <p:nvPr/>
            </p:nvGrpSpPr>
            <p:grpSpPr>
              <a:xfrm>
                <a:off x="7417080" y="2662200"/>
                <a:ext cx="1363680" cy="303120"/>
                <a:chOff x="7417080" y="2662200"/>
                <a:chExt cx="1363680" cy="303120"/>
              </a:xfrm>
            </p:grpSpPr>
            <p:sp>
              <p:nvSpPr>
                <p:cNvPr id="755" name=""/>
                <p:cNvSpPr/>
                <p:nvPr/>
              </p:nvSpPr>
              <p:spPr>
                <a:xfrm>
                  <a:off x="7471800" y="26622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7417080" y="26622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7" name=""/>
              <p:cNvGrpSpPr/>
              <p:nvPr/>
            </p:nvGrpSpPr>
            <p:grpSpPr>
              <a:xfrm>
                <a:off x="254520" y="2965680"/>
                <a:ext cx="545040" cy="303120"/>
                <a:chOff x="254520" y="2965680"/>
                <a:chExt cx="545040" cy="303120"/>
              </a:xfrm>
            </p:grpSpPr>
            <p:sp>
              <p:nvSpPr>
                <p:cNvPr id="758" name=""/>
                <p:cNvSpPr/>
                <p:nvPr/>
              </p:nvSpPr>
              <p:spPr>
                <a:xfrm>
                  <a:off x="309240" y="296568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254520" y="296568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0" name=""/>
              <p:cNvGrpSpPr/>
              <p:nvPr/>
            </p:nvGrpSpPr>
            <p:grpSpPr>
              <a:xfrm>
                <a:off x="799560" y="2965680"/>
                <a:ext cx="4176000" cy="303120"/>
                <a:chOff x="799560" y="2965680"/>
                <a:chExt cx="4176000" cy="303120"/>
              </a:xfrm>
            </p:grpSpPr>
            <p:sp>
              <p:nvSpPr>
                <p:cNvPr id="761" name=""/>
                <p:cNvSpPr/>
                <p:nvPr/>
              </p:nvSpPr>
              <p:spPr>
                <a:xfrm>
                  <a:off x="854280" y="296568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799560" y="296568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3" name=""/>
              <p:cNvGrpSpPr/>
              <p:nvPr/>
            </p:nvGrpSpPr>
            <p:grpSpPr>
              <a:xfrm>
                <a:off x="4975920" y="2965680"/>
                <a:ext cx="738360" cy="303120"/>
                <a:chOff x="4975920" y="2965680"/>
                <a:chExt cx="738360" cy="303120"/>
              </a:xfrm>
            </p:grpSpPr>
            <p:sp>
              <p:nvSpPr>
                <p:cNvPr id="764" name=""/>
                <p:cNvSpPr/>
                <p:nvPr/>
              </p:nvSpPr>
              <p:spPr>
                <a:xfrm>
                  <a:off x="5030640" y="296568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4975920" y="296568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6" name=""/>
              <p:cNvGrpSpPr/>
              <p:nvPr/>
            </p:nvGrpSpPr>
            <p:grpSpPr>
              <a:xfrm>
                <a:off x="5714280" y="2965680"/>
                <a:ext cx="851400" cy="303120"/>
                <a:chOff x="5714280" y="2965680"/>
                <a:chExt cx="851400" cy="303120"/>
              </a:xfrm>
            </p:grpSpPr>
            <p:sp>
              <p:nvSpPr>
                <p:cNvPr id="767" name=""/>
                <p:cNvSpPr/>
                <p:nvPr/>
              </p:nvSpPr>
              <p:spPr>
                <a:xfrm>
                  <a:off x="5769000" y="296568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5714280" y="296568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9" name=""/>
              <p:cNvGrpSpPr/>
              <p:nvPr/>
            </p:nvGrpSpPr>
            <p:grpSpPr>
              <a:xfrm>
                <a:off x="6565680" y="2965680"/>
                <a:ext cx="851040" cy="303120"/>
                <a:chOff x="6565680" y="2965680"/>
                <a:chExt cx="851040" cy="303120"/>
              </a:xfrm>
            </p:grpSpPr>
            <p:sp>
              <p:nvSpPr>
                <p:cNvPr id="770" name=""/>
                <p:cNvSpPr/>
                <p:nvPr/>
              </p:nvSpPr>
              <p:spPr>
                <a:xfrm>
                  <a:off x="6620400" y="296568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6565680" y="296568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2" name=""/>
              <p:cNvGrpSpPr/>
              <p:nvPr/>
            </p:nvGrpSpPr>
            <p:grpSpPr>
              <a:xfrm>
                <a:off x="7417080" y="2965680"/>
                <a:ext cx="1363680" cy="303120"/>
                <a:chOff x="7417080" y="2965680"/>
                <a:chExt cx="1363680" cy="303120"/>
              </a:xfrm>
            </p:grpSpPr>
            <p:sp>
              <p:nvSpPr>
                <p:cNvPr id="773" name=""/>
                <p:cNvSpPr/>
                <p:nvPr/>
              </p:nvSpPr>
              <p:spPr>
                <a:xfrm>
                  <a:off x="7471800" y="296568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7417080" y="296568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5" name=""/>
              <p:cNvGrpSpPr/>
              <p:nvPr/>
            </p:nvGrpSpPr>
            <p:grpSpPr>
              <a:xfrm>
                <a:off x="254520" y="3269160"/>
                <a:ext cx="545040" cy="303120"/>
                <a:chOff x="254520" y="3269160"/>
                <a:chExt cx="545040" cy="303120"/>
              </a:xfrm>
            </p:grpSpPr>
            <p:sp>
              <p:nvSpPr>
                <p:cNvPr id="776" name=""/>
                <p:cNvSpPr/>
                <p:nvPr/>
              </p:nvSpPr>
              <p:spPr>
                <a:xfrm>
                  <a:off x="309240" y="326916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254520" y="326916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8" name=""/>
              <p:cNvGrpSpPr/>
              <p:nvPr/>
            </p:nvGrpSpPr>
            <p:grpSpPr>
              <a:xfrm>
                <a:off x="799560" y="3269160"/>
                <a:ext cx="4176000" cy="303120"/>
                <a:chOff x="799560" y="3269160"/>
                <a:chExt cx="4176000" cy="303120"/>
              </a:xfrm>
            </p:grpSpPr>
            <p:sp>
              <p:nvSpPr>
                <p:cNvPr id="779" name=""/>
                <p:cNvSpPr/>
                <p:nvPr/>
              </p:nvSpPr>
              <p:spPr>
                <a:xfrm>
                  <a:off x="854280" y="326916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右端外圆、锥面、倒角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799560" y="326916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1" name=""/>
              <p:cNvGrpSpPr/>
              <p:nvPr/>
            </p:nvGrpSpPr>
            <p:grpSpPr>
              <a:xfrm>
                <a:off x="4975920" y="3269160"/>
                <a:ext cx="738360" cy="303120"/>
                <a:chOff x="4975920" y="3269160"/>
                <a:chExt cx="738360" cy="303120"/>
              </a:xfrm>
            </p:grpSpPr>
            <p:sp>
              <p:nvSpPr>
                <p:cNvPr id="782" name=""/>
                <p:cNvSpPr/>
                <p:nvPr/>
              </p:nvSpPr>
              <p:spPr>
                <a:xfrm>
                  <a:off x="5030640" y="326916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4975920" y="326916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4" name=""/>
              <p:cNvGrpSpPr/>
              <p:nvPr/>
            </p:nvGrpSpPr>
            <p:grpSpPr>
              <a:xfrm>
                <a:off x="5714280" y="3269160"/>
                <a:ext cx="851400" cy="303120"/>
                <a:chOff x="5714280" y="3269160"/>
                <a:chExt cx="851400" cy="303120"/>
              </a:xfrm>
            </p:grpSpPr>
            <p:sp>
              <p:nvSpPr>
                <p:cNvPr id="785" name=""/>
                <p:cNvSpPr/>
                <p:nvPr/>
              </p:nvSpPr>
              <p:spPr>
                <a:xfrm>
                  <a:off x="5769000" y="326916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5714280" y="326916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7" name=""/>
              <p:cNvGrpSpPr/>
              <p:nvPr/>
            </p:nvGrpSpPr>
            <p:grpSpPr>
              <a:xfrm>
                <a:off x="6565680" y="3269160"/>
                <a:ext cx="851040" cy="303120"/>
                <a:chOff x="6565680" y="3269160"/>
                <a:chExt cx="851040" cy="303120"/>
              </a:xfrm>
            </p:grpSpPr>
            <p:sp>
              <p:nvSpPr>
                <p:cNvPr id="788" name=""/>
                <p:cNvSpPr/>
                <p:nvPr/>
              </p:nvSpPr>
              <p:spPr>
                <a:xfrm>
                  <a:off x="6620400" y="326916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6565680" y="326916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0" name=""/>
              <p:cNvGrpSpPr/>
              <p:nvPr/>
            </p:nvGrpSpPr>
            <p:grpSpPr>
              <a:xfrm>
                <a:off x="7417080" y="3269160"/>
                <a:ext cx="1363680" cy="303120"/>
                <a:chOff x="7417080" y="3269160"/>
                <a:chExt cx="1363680" cy="303120"/>
              </a:xfrm>
            </p:grpSpPr>
            <p:sp>
              <p:nvSpPr>
                <p:cNvPr id="791" name=""/>
                <p:cNvSpPr/>
                <p:nvPr/>
              </p:nvSpPr>
              <p:spPr>
                <a:xfrm>
                  <a:off x="7471800" y="326916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7417080" y="326916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3" name=""/>
              <p:cNvGrpSpPr/>
              <p:nvPr/>
            </p:nvGrpSpPr>
            <p:grpSpPr>
              <a:xfrm>
                <a:off x="254520" y="3572640"/>
                <a:ext cx="545040" cy="303120"/>
                <a:chOff x="254520" y="3572640"/>
                <a:chExt cx="545040" cy="303120"/>
              </a:xfrm>
            </p:grpSpPr>
            <p:sp>
              <p:nvSpPr>
                <p:cNvPr id="794" name=""/>
                <p:cNvSpPr/>
                <p:nvPr/>
              </p:nvSpPr>
              <p:spPr>
                <a:xfrm>
                  <a:off x="309240" y="35726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254520" y="35726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6" name=""/>
              <p:cNvGrpSpPr/>
              <p:nvPr/>
            </p:nvGrpSpPr>
            <p:grpSpPr>
              <a:xfrm>
                <a:off x="799560" y="3572640"/>
                <a:ext cx="4176000" cy="303120"/>
                <a:chOff x="799560" y="3572640"/>
                <a:chExt cx="4176000" cy="303120"/>
              </a:xfrm>
            </p:grpSpPr>
            <p:sp>
              <p:nvSpPr>
                <p:cNvPr id="797" name=""/>
                <p:cNvSpPr/>
                <p:nvPr/>
              </p:nvSpPr>
              <p:spPr>
                <a:xfrm>
                  <a:off x="854280" y="35726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退刀槽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799560" y="35726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9" name=""/>
              <p:cNvGrpSpPr/>
              <p:nvPr/>
            </p:nvGrpSpPr>
            <p:grpSpPr>
              <a:xfrm>
                <a:off x="4975920" y="3572640"/>
                <a:ext cx="738360" cy="303120"/>
                <a:chOff x="4975920" y="3572640"/>
                <a:chExt cx="738360" cy="303120"/>
              </a:xfrm>
            </p:grpSpPr>
            <p:sp>
              <p:nvSpPr>
                <p:cNvPr id="800" name=""/>
                <p:cNvSpPr/>
                <p:nvPr/>
              </p:nvSpPr>
              <p:spPr>
                <a:xfrm>
                  <a:off x="5030640" y="35726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4975920" y="35726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2" name=""/>
              <p:cNvGrpSpPr/>
              <p:nvPr/>
            </p:nvGrpSpPr>
            <p:grpSpPr>
              <a:xfrm>
                <a:off x="5714280" y="3572640"/>
                <a:ext cx="851400" cy="303120"/>
                <a:chOff x="5714280" y="3572640"/>
                <a:chExt cx="851400" cy="303120"/>
              </a:xfrm>
            </p:grpSpPr>
            <p:sp>
              <p:nvSpPr>
                <p:cNvPr id="803" name=""/>
                <p:cNvSpPr/>
                <p:nvPr/>
              </p:nvSpPr>
              <p:spPr>
                <a:xfrm>
                  <a:off x="5769000" y="35726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714280" y="35726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5" name=""/>
              <p:cNvGrpSpPr/>
              <p:nvPr/>
            </p:nvGrpSpPr>
            <p:grpSpPr>
              <a:xfrm>
                <a:off x="6565680" y="3572640"/>
                <a:ext cx="851040" cy="303120"/>
                <a:chOff x="6565680" y="3572640"/>
                <a:chExt cx="851040" cy="303120"/>
              </a:xfrm>
            </p:grpSpPr>
            <p:sp>
              <p:nvSpPr>
                <p:cNvPr id="806" name=""/>
                <p:cNvSpPr/>
                <p:nvPr/>
              </p:nvSpPr>
              <p:spPr>
                <a:xfrm>
                  <a:off x="6620400" y="35726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6565680" y="35726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8" name=""/>
              <p:cNvGrpSpPr/>
              <p:nvPr/>
            </p:nvGrpSpPr>
            <p:grpSpPr>
              <a:xfrm>
                <a:off x="7417080" y="3572640"/>
                <a:ext cx="1363680" cy="303120"/>
                <a:chOff x="7417080" y="3572640"/>
                <a:chExt cx="1363680" cy="303120"/>
              </a:xfrm>
            </p:grpSpPr>
            <p:sp>
              <p:nvSpPr>
                <p:cNvPr id="809" name=""/>
                <p:cNvSpPr/>
                <p:nvPr/>
              </p:nvSpPr>
              <p:spPr>
                <a:xfrm>
                  <a:off x="7471800" y="35726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7417080" y="35726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1" name=""/>
              <p:cNvGrpSpPr/>
              <p:nvPr/>
            </p:nvGrpSpPr>
            <p:grpSpPr>
              <a:xfrm>
                <a:off x="254520" y="3875760"/>
                <a:ext cx="545040" cy="303120"/>
                <a:chOff x="254520" y="3875760"/>
                <a:chExt cx="545040" cy="303120"/>
              </a:xfrm>
            </p:grpSpPr>
            <p:sp>
              <p:nvSpPr>
                <p:cNvPr id="812" name=""/>
                <p:cNvSpPr/>
                <p:nvPr/>
              </p:nvSpPr>
              <p:spPr>
                <a:xfrm>
                  <a:off x="309240" y="387576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254520" y="387576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4" name=""/>
              <p:cNvGrpSpPr/>
              <p:nvPr/>
            </p:nvGrpSpPr>
            <p:grpSpPr>
              <a:xfrm>
                <a:off x="799560" y="3875760"/>
                <a:ext cx="4176000" cy="303120"/>
                <a:chOff x="799560" y="3875760"/>
                <a:chExt cx="4176000" cy="303120"/>
              </a:xfrm>
            </p:grpSpPr>
            <p:sp>
              <p:nvSpPr>
                <p:cNvPr id="815" name=""/>
                <p:cNvSpPr/>
                <p:nvPr/>
              </p:nvSpPr>
              <p:spPr>
                <a:xfrm>
                  <a:off x="854280" y="387576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螺纹刀加工螺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30×2-6g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799560" y="387576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7" name=""/>
              <p:cNvGrpSpPr/>
              <p:nvPr/>
            </p:nvGrpSpPr>
            <p:grpSpPr>
              <a:xfrm>
                <a:off x="4975920" y="3875760"/>
                <a:ext cx="738360" cy="303120"/>
                <a:chOff x="4975920" y="3875760"/>
                <a:chExt cx="738360" cy="303120"/>
              </a:xfrm>
            </p:grpSpPr>
            <p:sp>
              <p:nvSpPr>
                <p:cNvPr id="818" name=""/>
                <p:cNvSpPr/>
                <p:nvPr/>
              </p:nvSpPr>
              <p:spPr>
                <a:xfrm>
                  <a:off x="5030640" y="387576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4975920" y="387576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0" name=""/>
              <p:cNvGrpSpPr/>
              <p:nvPr/>
            </p:nvGrpSpPr>
            <p:grpSpPr>
              <a:xfrm>
                <a:off x="5714280" y="3875760"/>
                <a:ext cx="851400" cy="303120"/>
                <a:chOff x="5714280" y="3875760"/>
                <a:chExt cx="851400" cy="303120"/>
              </a:xfrm>
            </p:grpSpPr>
            <p:sp>
              <p:nvSpPr>
                <p:cNvPr id="821" name=""/>
                <p:cNvSpPr/>
                <p:nvPr/>
              </p:nvSpPr>
              <p:spPr>
                <a:xfrm>
                  <a:off x="5769000" y="387576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5714280" y="387576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3" name=""/>
              <p:cNvGrpSpPr/>
              <p:nvPr/>
            </p:nvGrpSpPr>
            <p:grpSpPr>
              <a:xfrm>
                <a:off x="6565680" y="3875760"/>
                <a:ext cx="851040" cy="303120"/>
                <a:chOff x="6565680" y="3875760"/>
                <a:chExt cx="851040" cy="303120"/>
              </a:xfrm>
            </p:grpSpPr>
            <p:sp>
              <p:nvSpPr>
                <p:cNvPr id="824" name=""/>
                <p:cNvSpPr/>
                <p:nvPr/>
              </p:nvSpPr>
              <p:spPr>
                <a:xfrm>
                  <a:off x="6620400" y="387576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6565680" y="387576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6" name=""/>
              <p:cNvGrpSpPr/>
              <p:nvPr/>
            </p:nvGrpSpPr>
            <p:grpSpPr>
              <a:xfrm>
                <a:off x="7417080" y="3875760"/>
                <a:ext cx="1363680" cy="303120"/>
                <a:chOff x="7417080" y="3875760"/>
                <a:chExt cx="1363680" cy="303120"/>
              </a:xfrm>
            </p:grpSpPr>
            <p:sp>
              <p:nvSpPr>
                <p:cNvPr id="827" name=""/>
                <p:cNvSpPr/>
                <p:nvPr/>
              </p:nvSpPr>
              <p:spPr>
                <a:xfrm>
                  <a:off x="7471800" y="387576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7417080" y="387576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9" name=""/>
              <p:cNvGrpSpPr/>
              <p:nvPr/>
            </p:nvGrpSpPr>
            <p:grpSpPr>
              <a:xfrm>
                <a:off x="254520" y="4179240"/>
                <a:ext cx="545040" cy="303120"/>
                <a:chOff x="254520" y="4179240"/>
                <a:chExt cx="545040" cy="303120"/>
              </a:xfrm>
            </p:grpSpPr>
            <p:sp>
              <p:nvSpPr>
                <p:cNvPr id="830" name=""/>
                <p:cNvSpPr/>
                <p:nvPr/>
              </p:nvSpPr>
              <p:spPr>
                <a:xfrm>
                  <a:off x="309240" y="41792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254520" y="41792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2" name=""/>
              <p:cNvGrpSpPr/>
              <p:nvPr/>
            </p:nvGrpSpPr>
            <p:grpSpPr>
              <a:xfrm>
                <a:off x="799560" y="4179240"/>
                <a:ext cx="4176000" cy="303120"/>
                <a:chOff x="799560" y="4179240"/>
                <a:chExt cx="4176000" cy="303120"/>
              </a:xfrm>
            </p:grpSpPr>
            <p:sp>
              <p:nvSpPr>
                <p:cNvPr id="833" name=""/>
                <p:cNvSpPr/>
                <p:nvPr/>
              </p:nvSpPr>
              <p:spPr>
                <a:xfrm>
                  <a:off x="854280" y="41792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并用百分表校正跳动不大于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799560" y="41792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5" name=""/>
              <p:cNvGrpSpPr/>
              <p:nvPr/>
            </p:nvGrpSpPr>
            <p:grpSpPr>
              <a:xfrm>
                <a:off x="4975920" y="4179240"/>
                <a:ext cx="738360" cy="303120"/>
                <a:chOff x="4975920" y="4179240"/>
                <a:chExt cx="738360" cy="303120"/>
              </a:xfrm>
            </p:grpSpPr>
            <p:sp>
              <p:nvSpPr>
                <p:cNvPr id="836" name=""/>
                <p:cNvSpPr/>
                <p:nvPr/>
              </p:nvSpPr>
              <p:spPr>
                <a:xfrm>
                  <a:off x="5030640" y="41792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4975920" y="41792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8" name=""/>
              <p:cNvGrpSpPr/>
              <p:nvPr/>
            </p:nvGrpSpPr>
            <p:grpSpPr>
              <a:xfrm>
                <a:off x="5714280" y="4179240"/>
                <a:ext cx="851400" cy="303120"/>
                <a:chOff x="5714280" y="4179240"/>
                <a:chExt cx="851400" cy="303120"/>
              </a:xfrm>
            </p:grpSpPr>
            <p:sp>
              <p:nvSpPr>
                <p:cNvPr id="839" name=""/>
                <p:cNvSpPr/>
                <p:nvPr/>
              </p:nvSpPr>
              <p:spPr>
                <a:xfrm>
                  <a:off x="5769000" y="41792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5714280" y="41792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1" name=""/>
              <p:cNvGrpSpPr/>
              <p:nvPr/>
            </p:nvGrpSpPr>
            <p:grpSpPr>
              <a:xfrm>
                <a:off x="6565680" y="4179240"/>
                <a:ext cx="851040" cy="303120"/>
                <a:chOff x="6565680" y="4179240"/>
                <a:chExt cx="851040" cy="303120"/>
              </a:xfrm>
            </p:grpSpPr>
            <p:sp>
              <p:nvSpPr>
                <p:cNvPr id="842" name=""/>
                <p:cNvSpPr/>
                <p:nvPr/>
              </p:nvSpPr>
              <p:spPr>
                <a:xfrm>
                  <a:off x="6620400" y="41792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6565680" y="41792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4" name=""/>
              <p:cNvGrpSpPr/>
              <p:nvPr/>
            </p:nvGrpSpPr>
            <p:grpSpPr>
              <a:xfrm>
                <a:off x="7417080" y="4179240"/>
                <a:ext cx="1363680" cy="303120"/>
                <a:chOff x="7417080" y="4179240"/>
                <a:chExt cx="1363680" cy="303120"/>
              </a:xfrm>
            </p:grpSpPr>
            <p:sp>
              <p:nvSpPr>
                <p:cNvPr id="845" name=""/>
                <p:cNvSpPr/>
                <p:nvPr/>
              </p:nvSpPr>
              <p:spPr>
                <a:xfrm>
                  <a:off x="7471800" y="41792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7417080" y="41792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7" name=""/>
              <p:cNvGrpSpPr/>
              <p:nvPr/>
            </p:nvGrpSpPr>
            <p:grpSpPr>
              <a:xfrm>
                <a:off x="254520" y="4482720"/>
                <a:ext cx="545040" cy="303120"/>
                <a:chOff x="254520" y="4482720"/>
                <a:chExt cx="545040" cy="303120"/>
              </a:xfrm>
            </p:grpSpPr>
            <p:sp>
              <p:nvSpPr>
                <p:cNvPr id="848" name=""/>
                <p:cNvSpPr/>
                <p:nvPr/>
              </p:nvSpPr>
              <p:spPr>
                <a:xfrm>
                  <a:off x="309240" y="44827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254520" y="44827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0" name=""/>
              <p:cNvGrpSpPr/>
              <p:nvPr/>
            </p:nvGrpSpPr>
            <p:grpSpPr>
              <a:xfrm>
                <a:off x="799560" y="4482720"/>
                <a:ext cx="4176000" cy="303120"/>
                <a:chOff x="799560" y="4482720"/>
                <a:chExt cx="4176000" cy="303120"/>
              </a:xfrm>
            </p:grpSpPr>
            <p:sp>
              <p:nvSpPr>
                <p:cNvPr id="851" name=""/>
                <p:cNvSpPr/>
                <p:nvPr/>
              </p:nvSpPr>
              <p:spPr>
                <a:xfrm>
                  <a:off x="854280" y="44827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799560" y="44827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3" name=""/>
              <p:cNvGrpSpPr/>
              <p:nvPr/>
            </p:nvGrpSpPr>
            <p:grpSpPr>
              <a:xfrm>
                <a:off x="4975920" y="4482720"/>
                <a:ext cx="738360" cy="303120"/>
                <a:chOff x="4975920" y="4482720"/>
                <a:chExt cx="738360" cy="303120"/>
              </a:xfrm>
            </p:grpSpPr>
            <p:sp>
              <p:nvSpPr>
                <p:cNvPr id="854" name=""/>
                <p:cNvSpPr/>
                <p:nvPr/>
              </p:nvSpPr>
              <p:spPr>
                <a:xfrm>
                  <a:off x="5030640" y="44827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4975920" y="44827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6" name=""/>
              <p:cNvGrpSpPr/>
              <p:nvPr/>
            </p:nvGrpSpPr>
            <p:grpSpPr>
              <a:xfrm>
                <a:off x="5714280" y="4482720"/>
                <a:ext cx="851400" cy="303120"/>
                <a:chOff x="5714280" y="4482720"/>
                <a:chExt cx="851400" cy="303120"/>
              </a:xfrm>
            </p:grpSpPr>
            <p:sp>
              <p:nvSpPr>
                <p:cNvPr id="857" name=""/>
                <p:cNvSpPr/>
                <p:nvPr/>
              </p:nvSpPr>
              <p:spPr>
                <a:xfrm>
                  <a:off x="5769000" y="44827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5714280" y="44827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9" name=""/>
              <p:cNvGrpSpPr/>
              <p:nvPr/>
            </p:nvGrpSpPr>
            <p:grpSpPr>
              <a:xfrm>
                <a:off x="6565680" y="4482720"/>
                <a:ext cx="851040" cy="303120"/>
                <a:chOff x="6565680" y="4482720"/>
                <a:chExt cx="851040" cy="303120"/>
              </a:xfrm>
            </p:grpSpPr>
            <p:sp>
              <p:nvSpPr>
                <p:cNvPr id="860" name=""/>
                <p:cNvSpPr/>
                <p:nvPr/>
              </p:nvSpPr>
              <p:spPr>
                <a:xfrm>
                  <a:off x="6620400" y="44827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6565680" y="44827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2" name=""/>
              <p:cNvGrpSpPr/>
              <p:nvPr/>
            </p:nvGrpSpPr>
            <p:grpSpPr>
              <a:xfrm>
                <a:off x="7417080" y="4482720"/>
                <a:ext cx="1363680" cy="303120"/>
                <a:chOff x="7417080" y="4482720"/>
                <a:chExt cx="1363680" cy="303120"/>
              </a:xfrm>
            </p:grpSpPr>
            <p:sp>
              <p:nvSpPr>
                <p:cNvPr id="863" name=""/>
                <p:cNvSpPr/>
                <p:nvPr/>
              </p:nvSpPr>
              <p:spPr>
                <a:xfrm>
                  <a:off x="7471800" y="44827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7417080" y="44827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5" name=""/>
              <p:cNvGrpSpPr/>
              <p:nvPr/>
            </p:nvGrpSpPr>
            <p:grpSpPr>
              <a:xfrm>
                <a:off x="254520" y="4786200"/>
                <a:ext cx="545040" cy="303120"/>
                <a:chOff x="254520" y="4786200"/>
                <a:chExt cx="545040" cy="303120"/>
              </a:xfrm>
            </p:grpSpPr>
            <p:sp>
              <p:nvSpPr>
                <p:cNvPr id="866" name=""/>
                <p:cNvSpPr/>
                <p:nvPr/>
              </p:nvSpPr>
              <p:spPr>
                <a:xfrm>
                  <a:off x="309240" y="47862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254520" y="47862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8" name=""/>
              <p:cNvGrpSpPr/>
              <p:nvPr/>
            </p:nvGrpSpPr>
            <p:grpSpPr>
              <a:xfrm>
                <a:off x="799560" y="4786200"/>
                <a:ext cx="4176000" cy="303120"/>
                <a:chOff x="799560" y="4786200"/>
                <a:chExt cx="4176000" cy="303120"/>
              </a:xfrm>
            </p:grpSpPr>
            <p:sp>
              <p:nvSpPr>
                <p:cNvPr id="869" name=""/>
                <p:cNvSpPr/>
                <p:nvPr/>
              </p:nvSpPr>
              <p:spPr>
                <a:xfrm>
                  <a:off x="854280" y="47862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钻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2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底孔深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5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799560" y="47862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1" name=""/>
              <p:cNvGrpSpPr/>
              <p:nvPr/>
            </p:nvGrpSpPr>
            <p:grpSpPr>
              <a:xfrm>
                <a:off x="4975920" y="4786200"/>
                <a:ext cx="738360" cy="303120"/>
                <a:chOff x="4975920" y="4786200"/>
                <a:chExt cx="738360" cy="303120"/>
              </a:xfrm>
            </p:grpSpPr>
            <p:sp>
              <p:nvSpPr>
                <p:cNvPr id="872" name=""/>
                <p:cNvSpPr/>
                <p:nvPr/>
              </p:nvSpPr>
              <p:spPr>
                <a:xfrm>
                  <a:off x="5030640" y="47862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4975920" y="47862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4" name=""/>
              <p:cNvGrpSpPr/>
              <p:nvPr/>
            </p:nvGrpSpPr>
            <p:grpSpPr>
              <a:xfrm>
                <a:off x="5714280" y="4786200"/>
                <a:ext cx="851400" cy="303120"/>
                <a:chOff x="5714280" y="4786200"/>
                <a:chExt cx="851400" cy="303120"/>
              </a:xfrm>
            </p:grpSpPr>
            <p:sp>
              <p:nvSpPr>
                <p:cNvPr id="875" name=""/>
                <p:cNvSpPr/>
                <p:nvPr/>
              </p:nvSpPr>
              <p:spPr>
                <a:xfrm>
                  <a:off x="5769000" y="47862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5714280" y="47862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7" name=""/>
              <p:cNvGrpSpPr/>
              <p:nvPr/>
            </p:nvGrpSpPr>
            <p:grpSpPr>
              <a:xfrm>
                <a:off x="6565680" y="4786200"/>
                <a:ext cx="851040" cy="303120"/>
                <a:chOff x="6565680" y="4786200"/>
                <a:chExt cx="851040" cy="303120"/>
              </a:xfrm>
            </p:grpSpPr>
            <p:sp>
              <p:nvSpPr>
                <p:cNvPr id="878" name=""/>
                <p:cNvSpPr/>
                <p:nvPr/>
              </p:nvSpPr>
              <p:spPr>
                <a:xfrm>
                  <a:off x="6620400" y="47862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6565680" y="47862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0" name=""/>
              <p:cNvGrpSpPr/>
              <p:nvPr/>
            </p:nvGrpSpPr>
            <p:grpSpPr>
              <a:xfrm>
                <a:off x="7417080" y="4786200"/>
                <a:ext cx="1363680" cy="303120"/>
                <a:chOff x="7417080" y="4786200"/>
                <a:chExt cx="1363680" cy="303120"/>
              </a:xfrm>
            </p:grpSpPr>
            <p:sp>
              <p:nvSpPr>
                <p:cNvPr id="881" name=""/>
                <p:cNvSpPr/>
                <p:nvPr/>
              </p:nvSpPr>
              <p:spPr>
                <a:xfrm>
                  <a:off x="7471800" y="47862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7417080" y="47862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3" name=""/>
              <p:cNvGrpSpPr/>
              <p:nvPr/>
            </p:nvGrpSpPr>
            <p:grpSpPr>
              <a:xfrm>
                <a:off x="254520" y="5089320"/>
                <a:ext cx="545040" cy="303120"/>
                <a:chOff x="254520" y="5089320"/>
                <a:chExt cx="545040" cy="303120"/>
              </a:xfrm>
            </p:grpSpPr>
            <p:sp>
              <p:nvSpPr>
                <p:cNvPr id="884" name=""/>
                <p:cNvSpPr/>
                <p:nvPr/>
              </p:nvSpPr>
              <p:spPr>
                <a:xfrm>
                  <a:off x="309240" y="50893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254520" y="50893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6" name=""/>
              <p:cNvGrpSpPr/>
              <p:nvPr/>
            </p:nvGrpSpPr>
            <p:grpSpPr>
              <a:xfrm>
                <a:off x="799560" y="5089320"/>
                <a:ext cx="4176000" cy="303120"/>
                <a:chOff x="799560" y="5089320"/>
                <a:chExt cx="4176000" cy="303120"/>
              </a:xfrm>
            </p:grpSpPr>
            <p:sp>
              <p:nvSpPr>
                <p:cNvPr id="887" name=""/>
                <p:cNvSpPr/>
                <p:nvPr/>
              </p:nvSpPr>
              <p:spPr>
                <a:xfrm>
                  <a:off x="854280" y="50893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镗孔，粗车外圆，倒角留加工余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799560" y="50893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9" name=""/>
              <p:cNvGrpSpPr/>
              <p:nvPr/>
            </p:nvGrpSpPr>
            <p:grpSpPr>
              <a:xfrm>
                <a:off x="4975920" y="5089320"/>
                <a:ext cx="738360" cy="303120"/>
                <a:chOff x="4975920" y="5089320"/>
                <a:chExt cx="738360" cy="303120"/>
              </a:xfrm>
            </p:grpSpPr>
            <p:sp>
              <p:nvSpPr>
                <p:cNvPr id="890" name=""/>
                <p:cNvSpPr/>
                <p:nvPr/>
              </p:nvSpPr>
              <p:spPr>
                <a:xfrm>
                  <a:off x="5030640" y="50893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4975920" y="50893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2" name=""/>
              <p:cNvGrpSpPr/>
              <p:nvPr/>
            </p:nvGrpSpPr>
            <p:grpSpPr>
              <a:xfrm>
                <a:off x="5714280" y="5089320"/>
                <a:ext cx="851400" cy="303120"/>
                <a:chOff x="5714280" y="5089320"/>
                <a:chExt cx="851400" cy="303120"/>
              </a:xfrm>
            </p:grpSpPr>
            <p:sp>
              <p:nvSpPr>
                <p:cNvPr id="893" name=""/>
                <p:cNvSpPr/>
                <p:nvPr/>
              </p:nvSpPr>
              <p:spPr>
                <a:xfrm>
                  <a:off x="5769000" y="50893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5714280" y="50893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5" name=""/>
              <p:cNvGrpSpPr/>
              <p:nvPr/>
            </p:nvGrpSpPr>
            <p:grpSpPr>
              <a:xfrm>
                <a:off x="6565680" y="5089320"/>
                <a:ext cx="851040" cy="303120"/>
                <a:chOff x="6565680" y="5089320"/>
                <a:chExt cx="851040" cy="303120"/>
              </a:xfrm>
            </p:grpSpPr>
            <p:sp>
              <p:nvSpPr>
                <p:cNvPr id="896" name=""/>
                <p:cNvSpPr/>
                <p:nvPr/>
              </p:nvSpPr>
              <p:spPr>
                <a:xfrm>
                  <a:off x="6620400" y="50893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6565680" y="50893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8" name=""/>
              <p:cNvGrpSpPr/>
              <p:nvPr/>
            </p:nvGrpSpPr>
            <p:grpSpPr>
              <a:xfrm>
                <a:off x="7417080" y="5089320"/>
                <a:ext cx="1363680" cy="303120"/>
                <a:chOff x="7417080" y="5089320"/>
                <a:chExt cx="1363680" cy="303120"/>
              </a:xfrm>
            </p:grpSpPr>
            <p:sp>
              <p:nvSpPr>
                <p:cNvPr id="899" name=""/>
                <p:cNvSpPr/>
                <p:nvPr/>
              </p:nvSpPr>
              <p:spPr>
                <a:xfrm>
                  <a:off x="7471800" y="50893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7417080" y="50893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1" name=""/>
              <p:cNvGrpSpPr/>
              <p:nvPr/>
            </p:nvGrpSpPr>
            <p:grpSpPr>
              <a:xfrm>
                <a:off x="254520" y="5392440"/>
                <a:ext cx="545040" cy="303120"/>
                <a:chOff x="254520" y="5392440"/>
                <a:chExt cx="545040" cy="303120"/>
              </a:xfrm>
            </p:grpSpPr>
            <p:sp>
              <p:nvSpPr>
                <p:cNvPr id="902" name=""/>
                <p:cNvSpPr/>
                <p:nvPr/>
              </p:nvSpPr>
              <p:spPr>
                <a:xfrm>
                  <a:off x="309240" y="53924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254520" y="53924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4" name=""/>
              <p:cNvGrpSpPr/>
              <p:nvPr/>
            </p:nvGrpSpPr>
            <p:grpSpPr>
              <a:xfrm>
                <a:off x="799560" y="5392440"/>
                <a:ext cx="4176000" cy="303120"/>
                <a:chOff x="799560" y="5392440"/>
                <a:chExt cx="4176000" cy="303120"/>
              </a:xfrm>
            </p:grpSpPr>
            <p:sp>
              <p:nvSpPr>
                <p:cNvPr id="905" name=""/>
                <p:cNvSpPr/>
                <p:nvPr/>
              </p:nvSpPr>
              <p:spPr>
                <a:xfrm>
                  <a:off x="854280" y="53924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镗孔、精车外圆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799560" y="53924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7" name=""/>
              <p:cNvGrpSpPr/>
              <p:nvPr/>
            </p:nvGrpSpPr>
            <p:grpSpPr>
              <a:xfrm>
                <a:off x="4975920" y="5392440"/>
                <a:ext cx="738360" cy="303120"/>
                <a:chOff x="4975920" y="5392440"/>
                <a:chExt cx="738360" cy="303120"/>
              </a:xfrm>
            </p:grpSpPr>
            <p:sp>
              <p:nvSpPr>
                <p:cNvPr id="908" name=""/>
                <p:cNvSpPr/>
                <p:nvPr/>
              </p:nvSpPr>
              <p:spPr>
                <a:xfrm>
                  <a:off x="5030640" y="53924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4975920" y="53924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0" name=""/>
              <p:cNvGrpSpPr/>
              <p:nvPr/>
            </p:nvGrpSpPr>
            <p:grpSpPr>
              <a:xfrm>
                <a:off x="5714280" y="5392440"/>
                <a:ext cx="851400" cy="303120"/>
                <a:chOff x="5714280" y="5392440"/>
                <a:chExt cx="851400" cy="303120"/>
              </a:xfrm>
            </p:grpSpPr>
            <p:sp>
              <p:nvSpPr>
                <p:cNvPr id="911" name=""/>
                <p:cNvSpPr/>
                <p:nvPr/>
              </p:nvSpPr>
              <p:spPr>
                <a:xfrm>
                  <a:off x="5769000" y="53924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5714280" y="53924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3" name=""/>
              <p:cNvGrpSpPr/>
              <p:nvPr/>
            </p:nvGrpSpPr>
            <p:grpSpPr>
              <a:xfrm>
                <a:off x="6565680" y="5392440"/>
                <a:ext cx="851040" cy="303120"/>
                <a:chOff x="6565680" y="5392440"/>
                <a:chExt cx="851040" cy="303120"/>
              </a:xfrm>
            </p:grpSpPr>
            <p:sp>
              <p:nvSpPr>
                <p:cNvPr id="914" name=""/>
                <p:cNvSpPr/>
                <p:nvPr/>
              </p:nvSpPr>
              <p:spPr>
                <a:xfrm>
                  <a:off x="6620400" y="53924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6565680" y="53924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6" name=""/>
              <p:cNvGrpSpPr/>
              <p:nvPr/>
            </p:nvGrpSpPr>
            <p:grpSpPr>
              <a:xfrm>
                <a:off x="7417080" y="5392440"/>
                <a:ext cx="1363680" cy="303120"/>
                <a:chOff x="7417080" y="5392440"/>
                <a:chExt cx="1363680" cy="303120"/>
              </a:xfrm>
            </p:grpSpPr>
            <p:sp>
              <p:nvSpPr>
                <p:cNvPr id="917" name=""/>
                <p:cNvSpPr/>
                <p:nvPr/>
              </p:nvSpPr>
              <p:spPr>
                <a:xfrm>
                  <a:off x="7471800" y="53924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7417080" y="53924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9" name=""/>
              <p:cNvGrpSpPr/>
              <p:nvPr/>
            </p:nvGrpSpPr>
            <p:grpSpPr>
              <a:xfrm>
                <a:off x="254520" y="5695920"/>
                <a:ext cx="545040" cy="303120"/>
                <a:chOff x="254520" y="5695920"/>
                <a:chExt cx="545040" cy="303120"/>
              </a:xfrm>
            </p:grpSpPr>
            <p:sp>
              <p:nvSpPr>
                <p:cNvPr id="920" name=""/>
                <p:cNvSpPr/>
                <p:nvPr/>
              </p:nvSpPr>
              <p:spPr>
                <a:xfrm>
                  <a:off x="309240" y="56959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254520" y="56959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2" name=""/>
              <p:cNvGrpSpPr/>
              <p:nvPr/>
            </p:nvGrpSpPr>
            <p:grpSpPr>
              <a:xfrm>
                <a:off x="799560" y="5695920"/>
                <a:ext cx="4176000" cy="303120"/>
                <a:chOff x="799560" y="5695920"/>
                <a:chExt cx="4176000" cy="303120"/>
              </a:xfrm>
            </p:grpSpPr>
            <p:sp>
              <p:nvSpPr>
                <p:cNvPr id="923" name=""/>
                <p:cNvSpPr/>
                <p:nvPr/>
              </p:nvSpPr>
              <p:spPr>
                <a:xfrm>
                  <a:off x="854280" y="56959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799560" y="56959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5" name=""/>
              <p:cNvGrpSpPr/>
              <p:nvPr/>
            </p:nvGrpSpPr>
            <p:grpSpPr>
              <a:xfrm>
                <a:off x="4975920" y="5695920"/>
                <a:ext cx="738360" cy="303120"/>
                <a:chOff x="4975920" y="5695920"/>
                <a:chExt cx="738360" cy="303120"/>
              </a:xfrm>
            </p:grpSpPr>
            <p:sp>
              <p:nvSpPr>
                <p:cNvPr id="926" name=""/>
                <p:cNvSpPr/>
                <p:nvPr/>
              </p:nvSpPr>
              <p:spPr>
                <a:xfrm>
                  <a:off x="5030640" y="56959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4975920" y="56959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8" name=""/>
              <p:cNvGrpSpPr/>
              <p:nvPr/>
            </p:nvGrpSpPr>
            <p:grpSpPr>
              <a:xfrm>
                <a:off x="5714280" y="5695920"/>
                <a:ext cx="851400" cy="303120"/>
                <a:chOff x="5714280" y="5695920"/>
                <a:chExt cx="851400" cy="303120"/>
              </a:xfrm>
            </p:grpSpPr>
            <p:sp>
              <p:nvSpPr>
                <p:cNvPr id="929" name=""/>
                <p:cNvSpPr/>
                <p:nvPr/>
              </p:nvSpPr>
              <p:spPr>
                <a:xfrm>
                  <a:off x="5769000" y="56959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5714280" y="56959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1" name=""/>
              <p:cNvGrpSpPr/>
              <p:nvPr/>
            </p:nvGrpSpPr>
            <p:grpSpPr>
              <a:xfrm>
                <a:off x="6565680" y="5695920"/>
                <a:ext cx="851040" cy="303120"/>
                <a:chOff x="6565680" y="5695920"/>
                <a:chExt cx="851040" cy="303120"/>
              </a:xfrm>
            </p:grpSpPr>
            <p:sp>
              <p:nvSpPr>
                <p:cNvPr id="932" name=""/>
                <p:cNvSpPr/>
                <p:nvPr/>
              </p:nvSpPr>
              <p:spPr>
                <a:xfrm>
                  <a:off x="6620400" y="56959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6565680" y="56959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4" name=""/>
              <p:cNvGrpSpPr/>
              <p:nvPr/>
            </p:nvGrpSpPr>
            <p:grpSpPr>
              <a:xfrm>
                <a:off x="7417080" y="5695920"/>
                <a:ext cx="1363680" cy="303120"/>
                <a:chOff x="7417080" y="5695920"/>
                <a:chExt cx="1363680" cy="303120"/>
              </a:xfrm>
            </p:grpSpPr>
            <p:sp>
              <p:nvSpPr>
                <p:cNvPr id="935" name=""/>
                <p:cNvSpPr/>
                <p:nvPr/>
              </p:nvSpPr>
              <p:spPr>
                <a:xfrm>
                  <a:off x="7471800" y="56959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7417080" y="56959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37" name=""/>
            <p:cNvSpPr/>
            <p:nvPr/>
          </p:nvSpPr>
          <p:spPr>
            <a:xfrm>
              <a:off x="250920" y="1125360"/>
              <a:ext cx="8534160" cy="4876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8" name=""/>
          <p:cNvSpPr/>
          <p:nvPr/>
        </p:nvSpPr>
        <p:spPr>
          <a:xfrm>
            <a:off x="1101600" y="2095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" descr=""/>
          <p:cNvPicPr/>
          <p:nvPr/>
        </p:nvPicPr>
        <p:blipFill>
          <a:blip r:embed="rId2"/>
          <a:stretch/>
        </p:blipFill>
        <p:spPr>
          <a:xfrm>
            <a:off x="360360" y="1065240"/>
            <a:ext cx="8280360" cy="4705200"/>
          </a:xfrm>
          <a:prstGeom prst="rect">
            <a:avLst/>
          </a:prstGeom>
          <a:ln w="0">
            <a:noFill/>
          </a:ln>
        </p:spPr>
      </p:pic>
      <p:sp>
        <p:nvSpPr>
          <p:cNvPr id="941" name=""/>
          <p:cNvSpPr/>
          <p:nvPr/>
        </p:nvSpPr>
        <p:spPr>
          <a:xfrm>
            <a:off x="1101600" y="2095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2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3" name=""/>
          <p:cNvGrpSpPr/>
          <p:nvPr/>
        </p:nvGrpSpPr>
        <p:grpSpPr>
          <a:xfrm>
            <a:off x="380880" y="1600200"/>
            <a:ext cx="8305920" cy="4876920"/>
            <a:chOff x="380880" y="1600200"/>
            <a:chExt cx="8305920" cy="4876920"/>
          </a:xfrm>
        </p:grpSpPr>
        <p:grpSp>
          <p:nvGrpSpPr>
            <p:cNvPr id="944" name=""/>
            <p:cNvGrpSpPr/>
            <p:nvPr/>
          </p:nvGrpSpPr>
          <p:grpSpPr>
            <a:xfrm>
              <a:off x="384480" y="1603440"/>
              <a:ext cx="8298000" cy="4869720"/>
              <a:chOff x="384480" y="1603440"/>
              <a:chExt cx="8298000" cy="4869720"/>
            </a:xfrm>
          </p:grpSpPr>
          <p:grpSp>
            <p:nvGrpSpPr>
              <p:cNvPr id="945" name=""/>
              <p:cNvGrpSpPr/>
              <p:nvPr/>
            </p:nvGrpSpPr>
            <p:grpSpPr>
              <a:xfrm>
                <a:off x="384480" y="1603440"/>
                <a:ext cx="531000" cy="767520"/>
                <a:chOff x="384480" y="1603440"/>
                <a:chExt cx="531000" cy="767520"/>
              </a:xfrm>
            </p:grpSpPr>
            <p:sp>
              <p:nvSpPr>
                <p:cNvPr id="946" name=""/>
                <p:cNvSpPr/>
                <p:nvPr/>
              </p:nvSpPr>
              <p:spPr>
                <a:xfrm>
                  <a:off x="437760" y="1603440"/>
                  <a:ext cx="42408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384480" y="1603440"/>
                  <a:ext cx="53100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8" name=""/>
              <p:cNvGrpSpPr/>
              <p:nvPr/>
            </p:nvGrpSpPr>
            <p:grpSpPr>
              <a:xfrm>
                <a:off x="915480" y="1603440"/>
                <a:ext cx="4062240" cy="767520"/>
                <a:chOff x="915480" y="1603440"/>
                <a:chExt cx="4062240" cy="767520"/>
              </a:xfrm>
            </p:grpSpPr>
            <p:sp>
              <p:nvSpPr>
                <p:cNvPr id="949" name=""/>
                <p:cNvSpPr/>
                <p:nvPr/>
              </p:nvSpPr>
              <p:spPr>
                <a:xfrm>
                  <a:off x="968760" y="1603440"/>
                  <a:ext cx="395532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915480" y="1603440"/>
                  <a:ext cx="406224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1" name=""/>
              <p:cNvGrpSpPr/>
              <p:nvPr/>
            </p:nvGrpSpPr>
            <p:grpSpPr>
              <a:xfrm>
                <a:off x="4977720" y="1603440"/>
                <a:ext cx="2377800" cy="372600"/>
                <a:chOff x="4977720" y="1603440"/>
                <a:chExt cx="2377800" cy="372600"/>
              </a:xfrm>
            </p:grpSpPr>
            <p:sp>
              <p:nvSpPr>
                <p:cNvPr id="952" name=""/>
                <p:cNvSpPr/>
                <p:nvPr/>
              </p:nvSpPr>
              <p:spPr>
                <a:xfrm>
                  <a:off x="5031000" y="1603440"/>
                  <a:ext cx="22708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4977720" y="1603440"/>
                  <a:ext cx="23778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4" name=""/>
              <p:cNvGrpSpPr/>
              <p:nvPr/>
            </p:nvGrpSpPr>
            <p:grpSpPr>
              <a:xfrm>
                <a:off x="7355880" y="1603440"/>
                <a:ext cx="1326600" cy="767520"/>
                <a:chOff x="7355880" y="1603440"/>
                <a:chExt cx="1326600" cy="767520"/>
              </a:xfrm>
            </p:grpSpPr>
            <p:sp>
              <p:nvSpPr>
                <p:cNvPr id="955" name=""/>
                <p:cNvSpPr/>
                <p:nvPr/>
              </p:nvSpPr>
              <p:spPr>
                <a:xfrm>
                  <a:off x="7409160" y="1603440"/>
                  <a:ext cx="122004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7355880" y="1603440"/>
                  <a:ext cx="132660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7" name=""/>
              <p:cNvGrpSpPr/>
              <p:nvPr/>
            </p:nvGrpSpPr>
            <p:grpSpPr>
              <a:xfrm>
                <a:off x="4977720" y="1976040"/>
                <a:ext cx="719280" cy="394560"/>
                <a:chOff x="4977720" y="1976040"/>
                <a:chExt cx="719280" cy="394560"/>
              </a:xfrm>
            </p:grpSpPr>
            <p:sp>
              <p:nvSpPr>
                <p:cNvPr id="958" name=""/>
                <p:cNvSpPr/>
                <p:nvPr/>
              </p:nvSpPr>
              <p:spPr>
                <a:xfrm>
                  <a:off x="5031000" y="1976040"/>
                  <a:ext cx="61236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4977720" y="1976040"/>
                  <a:ext cx="71928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0" name=""/>
              <p:cNvGrpSpPr/>
              <p:nvPr/>
            </p:nvGrpSpPr>
            <p:grpSpPr>
              <a:xfrm>
                <a:off x="5697000" y="1976040"/>
                <a:ext cx="829080" cy="394560"/>
                <a:chOff x="5697000" y="1976040"/>
                <a:chExt cx="829080" cy="394560"/>
              </a:xfrm>
            </p:grpSpPr>
            <p:sp>
              <p:nvSpPr>
                <p:cNvPr id="961" name=""/>
                <p:cNvSpPr/>
                <p:nvPr/>
              </p:nvSpPr>
              <p:spPr>
                <a:xfrm>
                  <a:off x="5750280" y="1976040"/>
                  <a:ext cx="72252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5697000" y="1976040"/>
                  <a:ext cx="82908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3" name=""/>
              <p:cNvGrpSpPr/>
              <p:nvPr/>
            </p:nvGrpSpPr>
            <p:grpSpPr>
              <a:xfrm>
                <a:off x="6526440" y="1976040"/>
                <a:ext cx="829440" cy="394560"/>
                <a:chOff x="6526440" y="1976040"/>
                <a:chExt cx="829440" cy="394560"/>
              </a:xfrm>
            </p:grpSpPr>
            <p:sp>
              <p:nvSpPr>
                <p:cNvPr id="964" name=""/>
                <p:cNvSpPr/>
                <p:nvPr/>
              </p:nvSpPr>
              <p:spPr>
                <a:xfrm>
                  <a:off x="6579720" y="1976040"/>
                  <a:ext cx="72252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6526440" y="1976040"/>
                  <a:ext cx="82944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6" name=""/>
              <p:cNvGrpSpPr/>
              <p:nvPr/>
            </p:nvGrpSpPr>
            <p:grpSpPr>
              <a:xfrm>
                <a:off x="384480" y="2370960"/>
                <a:ext cx="531000" cy="372600"/>
                <a:chOff x="384480" y="2370960"/>
                <a:chExt cx="531000" cy="372600"/>
              </a:xfrm>
            </p:grpSpPr>
            <p:sp>
              <p:nvSpPr>
                <p:cNvPr id="967" name=""/>
                <p:cNvSpPr/>
                <p:nvPr/>
              </p:nvSpPr>
              <p:spPr>
                <a:xfrm>
                  <a:off x="437760" y="23709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384480" y="23709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9" name=""/>
              <p:cNvGrpSpPr/>
              <p:nvPr/>
            </p:nvGrpSpPr>
            <p:grpSpPr>
              <a:xfrm>
                <a:off x="915480" y="2370960"/>
                <a:ext cx="4062240" cy="372600"/>
                <a:chOff x="915480" y="2370960"/>
                <a:chExt cx="4062240" cy="372600"/>
              </a:xfrm>
            </p:grpSpPr>
            <p:sp>
              <p:nvSpPr>
                <p:cNvPr id="970" name=""/>
                <p:cNvSpPr/>
                <p:nvPr/>
              </p:nvSpPr>
              <p:spPr>
                <a:xfrm>
                  <a:off x="968760" y="23709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毛坯外圆伸出长度约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915480" y="23709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2" name=""/>
              <p:cNvGrpSpPr/>
              <p:nvPr/>
            </p:nvGrpSpPr>
            <p:grpSpPr>
              <a:xfrm>
                <a:off x="4977720" y="2370960"/>
                <a:ext cx="719280" cy="372600"/>
                <a:chOff x="4977720" y="2370960"/>
                <a:chExt cx="719280" cy="372600"/>
              </a:xfrm>
            </p:grpSpPr>
            <p:sp>
              <p:nvSpPr>
                <p:cNvPr id="973" name=""/>
                <p:cNvSpPr/>
                <p:nvPr/>
              </p:nvSpPr>
              <p:spPr>
                <a:xfrm>
                  <a:off x="5031000" y="23709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4977720" y="23709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5" name=""/>
              <p:cNvGrpSpPr/>
              <p:nvPr/>
            </p:nvGrpSpPr>
            <p:grpSpPr>
              <a:xfrm>
                <a:off x="5697000" y="2370960"/>
                <a:ext cx="829080" cy="372600"/>
                <a:chOff x="5697000" y="2370960"/>
                <a:chExt cx="829080" cy="372600"/>
              </a:xfrm>
            </p:grpSpPr>
            <p:sp>
              <p:nvSpPr>
                <p:cNvPr id="976" name=""/>
                <p:cNvSpPr/>
                <p:nvPr/>
              </p:nvSpPr>
              <p:spPr>
                <a:xfrm>
                  <a:off x="5750280" y="23709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5697000" y="23709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8" name=""/>
              <p:cNvGrpSpPr/>
              <p:nvPr/>
            </p:nvGrpSpPr>
            <p:grpSpPr>
              <a:xfrm>
                <a:off x="6526440" y="2370960"/>
                <a:ext cx="829440" cy="372600"/>
                <a:chOff x="6526440" y="2370960"/>
                <a:chExt cx="829440" cy="372600"/>
              </a:xfrm>
            </p:grpSpPr>
            <p:sp>
              <p:nvSpPr>
                <p:cNvPr id="979" name=""/>
                <p:cNvSpPr/>
                <p:nvPr/>
              </p:nvSpPr>
              <p:spPr>
                <a:xfrm>
                  <a:off x="6579720" y="23709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6526440" y="23709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1" name=""/>
              <p:cNvGrpSpPr/>
              <p:nvPr/>
            </p:nvGrpSpPr>
            <p:grpSpPr>
              <a:xfrm>
                <a:off x="7355880" y="2370960"/>
                <a:ext cx="1326600" cy="372600"/>
                <a:chOff x="7355880" y="2370960"/>
                <a:chExt cx="1326600" cy="372600"/>
              </a:xfrm>
            </p:grpSpPr>
            <p:sp>
              <p:nvSpPr>
                <p:cNvPr id="982" name=""/>
                <p:cNvSpPr/>
                <p:nvPr/>
              </p:nvSpPr>
              <p:spPr>
                <a:xfrm>
                  <a:off x="7409160" y="23709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7355880" y="23709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4" name=""/>
              <p:cNvGrpSpPr/>
              <p:nvPr/>
            </p:nvGrpSpPr>
            <p:grpSpPr>
              <a:xfrm>
                <a:off x="384480" y="2743920"/>
                <a:ext cx="531000" cy="372600"/>
                <a:chOff x="384480" y="2743920"/>
                <a:chExt cx="531000" cy="372600"/>
              </a:xfrm>
            </p:grpSpPr>
            <p:sp>
              <p:nvSpPr>
                <p:cNvPr id="985" name=""/>
                <p:cNvSpPr/>
                <p:nvPr/>
              </p:nvSpPr>
              <p:spPr>
                <a:xfrm>
                  <a:off x="437760" y="274392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384480" y="274392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7" name=""/>
              <p:cNvGrpSpPr/>
              <p:nvPr/>
            </p:nvGrpSpPr>
            <p:grpSpPr>
              <a:xfrm>
                <a:off x="915480" y="2743920"/>
                <a:ext cx="4062240" cy="372600"/>
                <a:chOff x="915480" y="2743920"/>
                <a:chExt cx="4062240" cy="372600"/>
              </a:xfrm>
            </p:grpSpPr>
            <p:sp>
              <p:nvSpPr>
                <p:cNvPr id="988" name=""/>
                <p:cNvSpPr/>
                <p:nvPr/>
              </p:nvSpPr>
              <p:spPr>
                <a:xfrm>
                  <a:off x="968760" y="274392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零件右端外圆、锥面等留加工余量，单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915480" y="274392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0" name=""/>
              <p:cNvGrpSpPr/>
              <p:nvPr/>
            </p:nvGrpSpPr>
            <p:grpSpPr>
              <a:xfrm>
                <a:off x="4977720" y="2743920"/>
                <a:ext cx="719280" cy="372600"/>
                <a:chOff x="4977720" y="2743920"/>
                <a:chExt cx="719280" cy="372600"/>
              </a:xfrm>
            </p:grpSpPr>
            <p:sp>
              <p:nvSpPr>
                <p:cNvPr id="991" name=""/>
                <p:cNvSpPr/>
                <p:nvPr/>
              </p:nvSpPr>
              <p:spPr>
                <a:xfrm>
                  <a:off x="5031000" y="274392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4977720" y="274392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3" name=""/>
              <p:cNvGrpSpPr/>
              <p:nvPr/>
            </p:nvGrpSpPr>
            <p:grpSpPr>
              <a:xfrm>
                <a:off x="5697000" y="2743920"/>
                <a:ext cx="829080" cy="372600"/>
                <a:chOff x="5697000" y="2743920"/>
                <a:chExt cx="829080" cy="372600"/>
              </a:xfrm>
            </p:grpSpPr>
            <p:sp>
              <p:nvSpPr>
                <p:cNvPr id="994" name=""/>
                <p:cNvSpPr/>
                <p:nvPr/>
              </p:nvSpPr>
              <p:spPr>
                <a:xfrm>
                  <a:off x="5750280" y="27439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5697000" y="274392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6" name=""/>
              <p:cNvGrpSpPr/>
              <p:nvPr/>
            </p:nvGrpSpPr>
            <p:grpSpPr>
              <a:xfrm>
                <a:off x="6526440" y="2743920"/>
                <a:ext cx="829440" cy="372600"/>
                <a:chOff x="6526440" y="2743920"/>
                <a:chExt cx="829440" cy="372600"/>
              </a:xfrm>
            </p:grpSpPr>
            <p:sp>
              <p:nvSpPr>
                <p:cNvPr id="997" name=""/>
                <p:cNvSpPr/>
                <p:nvPr/>
              </p:nvSpPr>
              <p:spPr>
                <a:xfrm>
                  <a:off x="6579720" y="27439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6526440" y="274392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9" name=""/>
              <p:cNvGrpSpPr/>
              <p:nvPr/>
            </p:nvGrpSpPr>
            <p:grpSpPr>
              <a:xfrm>
                <a:off x="7355880" y="2743920"/>
                <a:ext cx="1326600" cy="372600"/>
                <a:chOff x="7355880" y="2743920"/>
                <a:chExt cx="1326600" cy="372600"/>
              </a:xfrm>
            </p:grpSpPr>
            <p:sp>
              <p:nvSpPr>
                <p:cNvPr id="1000" name=""/>
                <p:cNvSpPr/>
                <p:nvPr/>
              </p:nvSpPr>
              <p:spPr>
                <a:xfrm>
                  <a:off x="7409160" y="274392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7355880" y="274392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2" name=""/>
              <p:cNvGrpSpPr/>
              <p:nvPr/>
            </p:nvGrpSpPr>
            <p:grpSpPr>
              <a:xfrm>
                <a:off x="384480" y="3116880"/>
                <a:ext cx="531000" cy="372600"/>
                <a:chOff x="384480" y="3116880"/>
                <a:chExt cx="531000" cy="372600"/>
              </a:xfrm>
            </p:grpSpPr>
            <p:sp>
              <p:nvSpPr>
                <p:cNvPr id="1003" name=""/>
                <p:cNvSpPr/>
                <p:nvPr/>
              </p:nvSpPr>
              <p:spPr>
                <a:xfrm>
                  <a:off x="437760" y="311688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384480" y="311688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5" name=""/>
              <p:cNvGrpSpPr/>
              <p:nvPr/>
            </p:nvGrpSpPr>
            <p:grpSpPr>
              <a:xfrm>
                <a:off x="915480" y="3116880"/>
                <a:ext cx="4062240" cy="372600"/>
                <a:chOff x="915480" y="3116880"/>
                <a:chExt cx="4062240" cy="372600"/>
              </a:xfrm>
            </p:grpSpPr>
            <p:sp>
              <p:nvSpPr>
                <p:cNvPr id="1006" name=""/>
                <p:cNvSpPr/>
                <p:nvPr/>
              </p:nvSpPr>
              <p:spPr>
                <a:xfrm>
                  <a:off x="968760" y="311688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915480" y="311688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8" name=""/>
              <p:cNvGrpSpPr/>
              <p:nvPr/>
            </p:nvGrpSpPr>
            <p:grpSpPr>
              <a:xfrm>
                <a:off x="4977720" y="3116880"/>
                <a:ext cx="719280" cy="372600"/>
                <a:chOff x="4977720" y="3116880"/>
                <a:chExt cx="719280" cy="372600"/>
              </a:xfrm>
            </p:grpSpPr>
            <p:sp>
              <p:nvSpPr>
                <p:cNvPr id="1009" name=""/>
                <p:cNvSpPr/>
                <p:nvPr/>
              </p:nvSpPr>
              <p:spPr>
                <a:xfrm>
                  <a:off x="5031000" y="311688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4977720" y="311688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1" name=""/>
              <p:cNvGrpSpPr/>
              <p:nvPr/>
            </p:nvGrpSpPr>
            <p:grpSpPr>
              <a:xfrm>
                <a:off x="5697000" y="3116880"/>
                <a:ext cx="829080" cy="372600"/>
                <a:chOff x="5697000" y="3116880"/>
                <a:chExt cx="829080" cy="372600"/>
              </a:xfrm>
            </p:grpSpPr>
            <p:sp>
              <p:nvSpPr>
                <p:cNvPr id="1012" name=""/>
                <p:cNvSpPr/>
                <p:nvPr/>
              </p:nvSpPr>
              <p:spPr>
                <a:xfrm>
                  <a:off x="5750280" y="31168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5697000" y="311688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4" name=""/>
              <p:cNvGrpSpPr/>
              <p:nvPr/>
            </p:nvGrpSpPr>
            <p:grpSpPr>
              <a:xfrm>
                <a:off x="6526440" y="3116880"/>
                <a:ext cx="829440" cy="372600"/>
                <a:chOff x="6526440" y="3116880"/>
                <a:chExt cx="829440" cy="372600"/>
              </a:xfrm>
            </p:grpSpPr>
            <p:sp>
              <p:nvSpPr>
                <p:cNvPr id="1015" name=""/>
                <p:cNvSpPr/>
                <p:nvPr/>
              </p:nvSpPr>
              <p:spPr>
                <a:xfrm>
                  <a:off x="6579720" y="31168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6526440" y="311688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7" name=""/>
              <p:cNvGrpSpPr/>
              <p:nvPr/>
            </p:nvGrpSpPr>
            <p:grpSpPr>
              <a:xfrm>
                <a:off x="7355880" y="3116880"/>
                <a:ext cx="1326600" cy="372600"/>
                <a:chOff x="7355880" y="3116880"/>
                <a:chExt cx="1326600" cy="372600"/>
              </a:xfrm>
            </p:grpSpPr>
            <p:sp>
              <p:nvSpPr>
                <p:cNvPr id="1018" name=""/>
                <p:cNvSpPr/>
                <p:nvPr/>
              </p:nvSpPr>
              <p:spPr>
                <a:xfrm>
                  <a:off x="7409160" y="311688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7355880" y="311688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0" name=""/>
              <p:cNvGrpSpPr/>
              <p:nvPr/>
            </p:nvGrpSpPr>
            <p:grpSpPr>
              <a:xfrm>
                <a:off x="384480" y="3489840"/>
                <a:ext cx="531000" cy="372600"/>
                <a:chOff x="384480" y="3489840"/>
                <a:chExt cx="531000" cy="372600"/>
              </a:xfrm>
            </p:grpSpPr>
            <p:sp>
              <p:nvSpPr>
                <p:cNvPr id="1021" name=""/>
                <p:cNvSpPr/>
                <p:nvPr/>
              </p:nvSpPr>
              <p:spPr>
                <a:xfrm>
                  <a:off x="437760" y="348984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384480" y="348984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3" name=""/>
              <p:cNvGrpSpPr/>
              <p:nvPr/>
            </p:nvGrpSpPr>
            <p:grpSpPr>
              <a:xfrm>
                <a:off x="915480" y="3489840"/>
                <a:ext cx="4062240" cy="372600"/>
                <a:chOff x="915480" y="3489840"/>
                <a:chExt cx="4062240" cy="372600"/>
              </a:xfrm>
            </p:grpSpPr>
            <p:sp>
              <p:nvSpPr>
                <p:cNvPr id="1024" name=""/>
                <p:cNvSpPr/>
                <p:nvPr/>
              </p:nvSpPr>
              <p:spPr>
                <a:xfrm>
                  <a:off x="968760" y="348984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零件右端各部分达到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915480" y="348984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6" name=""/>
              <p:cNvGrpSpPr/>
              <p:nvPr/>
            </p:nvGrpSpPr>
            <p:grpSpPr>
              <a:xfrm>
                <a:off x="4977720" y="3489840"/>
                <a:ext cx="719280" cy="372600"/>
                <a:chOff x="4977720" y="3489840"/>
                <a:chExt cx="719280" cy="372600"/>
              </a:xfrm>
            </p:grpSpPr>
            <p:sp>
              <p:nvSpPr>
                <p:cNvPr id="1027" name=""/>
                <p:cNvSpPr/>
                <p:nvPr/>
              </p:nvSpPr>
              <p:spPr>
                <a:xfrm>
                  <a:off x="5031000" y="348984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4977720" y="348984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9" name=""/>
              <p:cNvGrpSpPr/>
              <p:nvPr/>
            </p:nvGrpSpPr>
            <p:grpSpPr>
              <a:xfrm>
                <a:off x="5697000" y="3489840"/>
                <a:ext cx="829080" cy="372600"/>
                <a:chOff x="5697000" y="3489840"/>
                <a:chExt cx="829080" cy="372600"/>
              </a:xfrm>
            </p:grpSpPr>
            <p:sp>
              <p:nvSpPr>
                <p:cNvPr id="1030" name=""/>
                <p:cNvSpPr/>
                <p:nvPr/>
              </p:nvSpPr>
              <p:spPr>
                <a:xfrm>
                  <a:off x="5750280" y="34898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5697000" y="348984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2" name=""/>
              <p:cNvGrpSpPr/>
              <p:nvPr/>
            </p:nvGrpSpPr>
            <p:grpSpPr>
              <a:xfrm>
                <a:off x="6526440" y="3489840"/>
                <a:ext cx="829440" cy="372600"/>
                <a:chOff x="6526440" y="3489840"/>
                <a:chExt cx="829440" cy="372600"/>
              </a:xfrm>
            </p:grpSpPr>
            <p:sp>
              <p:nvSpPr>
                <p:cNvPr id="1033" name=""/>
                <p:cNvSpPr/>
                <p:nvPr/>
              </p:nvSpPr>
              <p:spPr>
                <a:xfrm>
                  <a:off x="6579720" y="34898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6526440" y="348984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5" name=""/>
              <p:cNvGrpSpPr/>
              <p:nvPr/>
            </p:nvGrpSpPr>
            <p:grpSpPr>
              <a:xfrm>
                <a:off x="7355880" y="3489840"/>
                <a:ext cx="1326600" cy="372600"/>
                <a:chOff x="7355880" y="3489840"/>
                <a:chExt cx="1326600" cy="372600"/>
              </a:xfrm>
            </p:grpSpPr>
            <p:sp>
              <p:nvSpPr>
                <p:cNvPr id="1036" name=""/>
                <p:cNvSpPr/>
                <p:nvPr/>
              </p:nvSpPr>
              <p:spPr>
                <a:xfrm>
                  <a:off x="7409160" y="348984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7355880" y="348984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8" name=""/>
              <p:cNvGrpSpPr/>
              <p:nvPr/>
            </p:nvGrpSpPr>
            <p:grpSpPr>
              <a:xfrm>
                <a:off x="384480" y="3862800"/>
                <a:ext cx="531000" cy="372600"/>
                <a:chOff x="384480" y="3862800"/>
                <a:chExt cx="531000" cy="372600"/>
              </a:xfrm>
            </p:grpSpPr>
            <p:sp>
              <p:nvSpPr>
                <p:cNvPr id="1039" name=""/>
                <p:cNvSpPr/>
                <p:nvPr/>
              </p:nvSpPr>
              <p:spPr>
                <a:xfrm>
                  <a:off x="437760" y="386280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384480" y="386280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1" name=""/>
              <p:cNvGrpSpPr/>
              <p:nvPr/>
            </p:nvGrpSpPr>
            <p:grpSpPr>
              <a:xfrm>
                <a:off x="915480" y="3862800"/>
                <a:ext cx="4062240" cy="372600"/>
                <a:chOff x="915480" y="3862800"/>
                <a:chExt cx="4062240" cy="372600"/>
              </a:xfrm>
            </p:grpSpPr>
            <p:sp>
              <p:nvSpPr>
                <p:cNvPr id="1042" name=""/>
                <p:cNvSpPr/>
                <p:nvPr/>
              </p:nvSpPr>
              <p:spPr>
                <a:xfrm>
                  <a:off x="968760" y="386280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退刀槽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×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1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915480" y="386280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4" name=""/>
              <p:cNvGrpSpPr/>
              <p:nvPr/>
            </p:nvGrpSpPr>
            <p:grpSpPr>
              <a:xfrm>
                <a:off x="4977720" y="3862800"/>
                <a:ext cx="719280" cy="372600"/>
                <a:chOff x="4977720" y="3862800"/>
                <a:chExt cx="719280" cy="372600"/>
              </a:xfrm>
            </p:grpSpPr>
            <p:sp>
              <p:nvSpPr>
                <p:cNvPr id="1045" name=""/>
                <p:cNvSpPr/>
                <p:nvPr/>
              </p:nvSpPr>
              <p:spPr>
                <a:xfrm>
                  <a:off x="5031000" y="386280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4977720" y="386280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7" name=""/>
              <p:cNvGrpSpPr/>
              <p:nvPr/>
            </p:nvGrpSpPr>
            <p:grpSpPr>
              <a:xfrm>
                <a:off x="5697000" y="3862800"/>
                <a:ext cx="829080" cy="372600"/>
                <a:chOff x="5697000" y="3862800"/>
                <a:chExt cx="829080" cy="372600"/>
              </a:xfrm>
            </p:grpSpPr>
            <p:sp>
              <p:nvSpPr>
                <p:cNvPr id="1048" name=""/>
                <p:cNvSpPr/>
                <p:nvPr/>
              </p:nvSpPr>
              <p:spPr>
                <a:xfrm>
                  <a:off x="5750280" y="38628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5697000" y="386280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0" name=""/>
              <p:cNvGrpSpPr/>
              <p:nvPr/>
            </p:nvGrpSpPr>
            <p:grpSpPr>
              <a:xfrm>
                <a:off x="6526440" y="3862800"/>
                <a:ext cx="829440" cy="372600"/>
                <a:chOff x="6526440" y="3862800"/>
                <a:chExt cx="829440" cy="372600"/>
              </a:xfrm>
            </p:grpSpPr>
            <p:sp>
              <p:nvSpPr>
                <p:cNvPr id="1051" name=""/>
                <p:cNvSpPr/>
                <p:nvPr/>
              </p:nvSpPr>
              <p:spPr>
                <a:xfrm>
                  <a:off x="6579720" y="38628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6526440" y="386280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3" name=""/>
              <p:cNvGrpSpPr/>
              <p:nvPr/>
            </p:nvGrpSpPr>
            <p:grpSpPr>
              <a:xfrm>
                <a:off x="7355880" y="3862800"/>
                <a:ext cx="1326600" cy="372600"/>
                <a:chOff x="7355880" y="3862800"/>
                <a:chExt cx="1326600" cy="372600"/>
              </a:xfrm>
            </p:grpSpPr>
            <p:sp>
              <p:nvSpPr>
                <p:cNvPr id="1054" name=""/>
                <p:cNvSpPr/>
                <p:nvPr/>
              </p:nvSpPr>
              <p:spPr>
                <a:xfrm>
                  <a:off x="7409160" y="386280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7355880" y="386280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6" name=""/>
              <p:cNvGrpSpPr/>
              <p:nvPr/>
            </p:nvGrpSpPr>
            <p:grpSpPr>
              <a:xfrm>
                <a:off x="384480" y="4235760"/>
                <a:ext cx="531000" cy="372600"/>
                <a:chOff x="384480" y="4235760"/>
                <a:chExt cx="531000" cy="372600"/>
              </a:xfrm>
            </p:grpSpPr>
            <p:sp>
              <p:nvSpPr>
                <p:cNvPr id="1057" name=""/>
                <p:cNvSpPr/>
                <p:nvPr/>
              </p:nvSpPr>
              <p:spPr>
                <a:xfrm>
                  <a:off x="437760" y="42357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384480" y="42357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9" name=""/>
              <p:cNvGrpSpPr/>
              <p:nvPr/>
            </p:nvGrpSpPr>
            <p:grpSpPr>
              <a:xfrm>
                <a:off x="915480" y="4235760"/>
                <a:ext cx="4062240" cy="372600"/>
                <a:chOff x="915480" y="4235760"/>
                <a:chExt cx="4062240" cy="372600"/>
              </a:xfrm>
            </p:grpSpPr>
            <p:sp>
              <p:nvSpPr>
                <p:cNvPr id="1060" name=""/>
                <p:cNvSpPr/>
                <p:nvPr/>
              </p:nvSpPr>
              <p:spPr>
                <a:xfrm>
                  <a:off x="968760" y="42357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螺纹刀粗、精加工螺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915480" y="42357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2" name=""/>
              <p:cNvGrpSpPr/>
              <p:nvPr/>
            </p:nvGrpSpPr>
            <p:grpSpPr>
              <a:xfrm>
                <a:off x="4977720" y="4235760"/>
                <a:ext cx="719280" cy="372600"/>
                <a:chOff x="4977720" y="4235760"/>
                <a:chExt cx="719280" cy="372600"/>
              </a:xfrm>
            </p:grpSpPr>
            <p:sp>
              <p:nvSpPr>
                <p:cNvPr id="1063" name=""/>
                <p:cNvSpPr/>
                <p:nvPr/>
              </p:nvSpPr>
              <p:spPr>
                <a:xfrm>
                  <a:off x="5031000" y="42357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4977720" y="42357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5" name=""/>
              <p:cNvGrpSpPr/>
              <p:nvPr/>
            </p:nvGrpSpPr>
            <p:grpSpPr>
              <a:xfrm>
                <a:off x="5697000" y="4235760"/>
                <a:ext cx="829080" cy="372600"/>
                <a:chOff x="5697000" y="4235760"/>
                <a:chExt cx="829080" cy="372600"/>
              </a:xfrm>
            </p:grpSpPr>
            <p:sp>
              <p:nvSpPr>
                <p:cNvPr id="1066" name=""/>
                <p:cNvSpPr/>
                <p:nvPr/>
              </p:nvSpPr>
              <p:spPr>
                <a:xfrm>
                  <a:off x="5750280" y="42357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5697000" y="42357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8" name=""/>
              <p:cNvGrpSpPr/>
              <p:nvPr/>
            </p:nvGrpSpPr>
            <p:grpSpPr>
              <a:xfrm>
                <a:off x="6526440" y="4235760"/>
                <a:ext cx="829440" cy="372600"/>
                <a:chOff x="6526440" y="4235760"/>
                <a:chExt cx="829440" cy="372600"/>
              </a:xfrm>
            </p:grpSpPr>
            <p:sp>
              <p:nvSpPr>
                <p:cNvPr id="1069" name=""/>
                <p:cNvSpPr/>
                <p:nvPr/>
              </p:nvSpPr>
              <p:spPr>
                <a:xfrm>
                  <a:off x="6579720" y="42357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6526440" y="42357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1" name=""/>
              <p:cNvGrpSpPr/>
              <p:nvPr/>
            </p:nvGrpSpPr>
            <p:grpSpPr>
              <a:xfrm>
                <a:off x="7355880" y="4235760"/>
                <a:ext cx="1326600" cy="372600"/>
                <a:chOff x="7355880" y="4235760"/>
                <a:chExt cx="1326600" cy="372600"/>
              </a:xfrm>
            </p:grpSpPr>
            <p:sp>
              <p:nvSpPr>
                <p:cNvPr id="1072" name=""/>
                <p:cNvSpPr/>
                <p:nvPr/>
              </p:nvSpPr>
              <p:spPr>
                <a:xfrm>
                  <a:off x="7409160" y="42357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7355880" y="42357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4" name=""/>
              <p:cNvGrpSpPr/>
              <p:nvPr/>
            </p:nvGrpSpPr>
            <p:grpSpPr>
              <a:xfrm>
                <a:off x="384480" y="4608720"/>
                <a:ext cx="531000" cy="372600"/>
                <a:chOff x="384480" y="4608720"/>
                <a:chExt cx="531000" cy="372600"/>
              </a:xfrm>
            </p:grpSpPr>
            <p:sp>
              <p:nvSpPr>
                <p:cNvPr id="1075" name=""/>
                <p:cNvSpPr/>
                <p:nvPr/>
              </p:nvSpPr>
              <p:spPr>
                <a:xfrm>
                  <a:off x="437760" y="460872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384480" y="460872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7" name=""/>
              <p:cNvGrpSpPr/>
              <p:nvPr/>
            </p:nvGrpSpPr>
            <p:grpSpPr>
              <a:xfrm>
                <a:off x="915480" y="4608720"/>
                <a:ext cx="4062240" cy="372600"/>
                <a:chOff x="915480" y="4608720"/>
                <a:chExt cx="4062240" cy="372600"/>
              </a:xfrm>
            </p:grpSpPr>
            <p:sp>
              <p:nvSpPr>
                <p:cNvPr id="1078" name=""/>
                <p:cNvSpPr/>
                <p:nvPr/>
              </p:nvSpPr>
              <p:spPr>
                <a:xfrm>
                  <a:off x="968760" y="460872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0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915480" y="460872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0" name=""/>
              <p:cNvGrpSpPr/>
              <p:nvPr/>
            </p:nvGrpSpPr>
            <p:grpSpPr>
              <a:xfrm>
                <a:off x="4977720" y="4608720"/>
                <a:ext cx="719280" cy="372600"/>
                <a:chOff x="4977720" y="4608720"/>
                <a:chExt cx="719280" cy="372600"/>
              </a:xfrm>
            </p:grpSpPr>
            <p:sp>
              <p:nvSpPr>
                <p:cNvPr id="1081" name=""/>
                <p:cNvSpPr/>
                <p:nvPr/>
              </p:nvSpPr>
              <p:spPr>
                <a:xfrm>
                  <a:off x="5031000" y="460872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4977720" y="460872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3" name=""/>
              <p:cNvGrpSpPr/>
              <p:nvPr/>
            </p:nvGrpSpPr>
            <p:grpSpPr>
              <a:xfrm>
                <a:off x="5697000" y="4608720"/>
                <a:ext cx="829080" cy="372600"/>
                <a:chOff x="5697000" y="4608720"/>
                <a:chExt cx="829080" cy="372600"/>
              </a:xfrm>
            </p:grpSpPr>
            <p:sp>
              <p:nvSpPr>
                <p:cNvPr id="1084" name=""/>
                <p:cNvSpPr/>
                <p:nvPr/>
              </p:nvSpPr>
              <p:spPr>
                <a:xfrm>
                  <a:off x="5750280" y="46087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5697000" y="460872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6" name=""/>
              <p:cNvGrpSpPr/>
              <p:nvPr/>
            </p:nvGrpSpPr>
            <p:grpSpPr>
              <a:xfrm>
                <a:off x="6526440" y="4608720"/>
                <a:ext cx="829440" cy="372600"/>
                <a:chOff x="6526440" y="4608720"/>
                <a:chExt cx="829440" cy="372600"/>
              </a:xfrm>
            </p:grpSpPr>
            <p:sp>
              <p:nvSpPr>
                <p:cNvPr id="1087" name=""/>
                <p:cNvSpPr/>
                <p:nvPr/>
              </p:nvSpPr>
              <p:spPr>
                <a:xfrm>
                  <a:off x="6579720" y="46087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6526440" y="460872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9" name=""/>
              <p:cNvGrpSpPr/>
              <p:nvPr/>
            </p:nvGrpSpPr>
            <p:grpSpPr>
              <a:xfrm>
                <a:off x="7355880" y="4608720"/>
                <a:ext cx="1326600" cy="372600"/>
                <a:chOff x="7355880" y="4608720"/>
                <a:chExt cx="1326600" cy="372600"/>
              </a:xfrm>
            </p:grpSpPr>
            <p:sp>
              <p:nvSpPr>
                <p:cNvPr id="1090" name=""/>
                <p:cNvSpPr/>
                <p:nvPr/>
              </p:nvSpPr>
              <p:spPr>
                <a:xfrm>
                  <a:off x="7409160" y="460872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7355880" y="460872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2" name=""/>
              <p:cNvGrpSpPr/>
              <p:nvPr/>
            </p:nvGrpSpPr>
            <p:grpSpPr>
              <a:xfrm>
                <a:off x="384480" y="4981680"/>
                <a:ext cx="531000" cy="372600"/>
                <a:chOff x="384480" y="4981680"/>
                <a:chExt cx="531000" cy="372600"/>
              </a:xfrm>
            </p:grpSpPr>
            <p:sp>
              <p:nvSpPr>
                <p:cNvPr id="1093" name=""/>
                <p:cNvSpPr/>
                <p:nvPr/>
              </p:nvSpPr>
              <p:spPr>
                <a:xfrm>
                  <a:off x="437760" y="498168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384480" y="498168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5" name=""/>
              <p:cNvGrpSpPr/>
              <p:nvPr/>
            </p:nvGrpSpPr>
            <p:grpSpPr>
              <a:xfrm>
                <a:off x="915480" y="4981680"/>
                <a:ext cx="4062240" cy="372600"/>
                <a:chOff x="915480" y="4981680"/>
                <a:chExt cx="4062240" cy="372600"/>
              </a:xfrm>
            </p:grpSpPr>
            <p:sp>
              <p:nvSpPr>
                <p:cNvPr id="1096" name=""/>
                <p:cNvSpPr/>
                <p:nvPr/>
              </p:nvSpPr>
              <p:spPr>
                <a:xfrm>
                  <a:off x="968760" y="498168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球面、外圆、台阶留加工余量，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915480" y="498168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8" name=""/>
              <p:cNvGrpSpPr/>
              <p:nvPr/>
            </p:nvGrpSpPr>
            <p:grpSpPr>
              <a:xfrm>
                <a:off x="4977720" y="4981680"/>
                <a:ext cx="719280" cy="372600"/>
                <a:chOff x="4977720" y="4981680"/>
                <a:chExt cx="719280" cy="372600"/>
              </a:xfrm>
            </p:grpSpPr>
            <p:sp>
              <p:nvSpPr>
                <p:cNvPr id="1099" name=""/>
                <p:cNvSpPr/>
                <p:nvPr/>
              </p:nvSpPr>
              <p:spPr>
                <a:xfrm>
                  <a:off x="5031000" y="498168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4977720" y="498168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1" name=""/>
              <p:cNvGrpSpPr/>
              <p:nvPr/>
            </p:nvGrpSpPr>
            <p:grpSpPr>
              <a:xfrm>
                <a:off x="5697000" y="4981680"/>
                <a:ext cx="829080" cy="372600"/>
                <a:chOff x="5697000" y="4981680"/>
                <a:chExt cx="829080" cy="372600"/>
              </a:xfrm>
            </p:grpSpPr>
            <p:sp>
              <p:nvSpPr>
                <p:cNvPr id="1102" name=""/>
                <p:cNvSpPr/>
                <p:nvPr/>
              </p:nvSpPr>
              <p:spPr>
                <a:xfrm>
                  <a:off x="5750280" y="49816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5697000" y="498168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4" name=""/>
              <p:cNvGrpSpPr/>
              <p:nvPr/>
            </p:nvGrpSpPr>
            <p:grpSpPr>
              <a:xfrm>
                <a:off x="6526440" y="4981680"/>
                <a:ext cx="829440" cy="372600"/>
                <a:chOff x="6526440" y="4981680"/>
                <a:chExt cx="829440" cy="372600"/>
              </a:xfrm>
            </p:grpSpPr>
            <p:sp>
              <p:nvSpPr>
                <p:cNvPr id="1105" name=""/>
                <p:cNvSpPr/>
                <p:nvPr/>
              </p:nvSpPr>
              <p:spPr>
                <a:xfrm>
                  <a:off x="6579720" y="49816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6526440" y="498168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7" name=""/>
              <p:cNvGrpSpPr/>
              <p:nvPr/>
            </p:nvGrpSpPr>
            <p:grpSpPr>
              <a:xfrm>
                <a:off x="7355880" y="4981680"/>
                <a:ext cx="1326600" cy="372600"/>
                <a:chOff x="7355880" y="4981680"/>
                <a:chExt cx="1326600" cy="372600"/>
              </a:xfrm>
            </p:grpSpPr>
            <p:sp>
              <p:nvSpPr>
                <p:cNvPr id="1108" name=""/>
                <p:cNvSpPr/>
                <p:nvPr/>
              </p:nvSpPr>
              <p:spPr>
                <a:xfrm>
                  <a:off x="7409160" y="498168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7355880" y="498168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0" name=""/>
              <p:cNvGrpSpPr/>
              <p:nvPr/>
            </p:nvGrpSpPr>
            <p:grpSpPr>
              <a:xfrm>
                <a:off x="384480" y="5354640"/>
                <a:ext cx="531000" cy="372600"/>
                <a:chOff x="384480" y="5354640"/>
                <a:chExt cx="531000" cy="372600"/>
              </a:xfrm>
            </p:grpSpPr>
            <p:sp>
              <p:nvSpPr>
                <p:cNvPr id="1111" name=""/>
                <p:cNvSpPr/>
                <p:nvPr/>
              </p:nvSpPr>
              <p:spPr>
                <a:xfrm>
                  <a:off x="437760" y="535464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384480" y="535464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3" name=""/>
              <p:cNvGrpSpPr/>
              <p:nvPr/>
            </p:nvGrpSpPr>
            <p:grpSpPr>
              <a:xfrm>
                <a:off x="915480" y="5354640"/>
                <a:ext cx="4062240" cy="372600"/>
                <a:chOff x="915480" y="5354640"/>
                <a:chExt cx="4062240" cy="372600"/>
              </a:xfrm>
            </p:grpSpPr>
            <p:sp>
              <p:nvSpPr>
                <p:cNvPr id="1114" name=""/>
                <p:cNvSpPr/>
                <p:nvPr/>
              </p:nvSpPr>
              <p:spPr>
                <a:xfrm>
                  <a:off x="968760" y="535464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球面、外圆、台阶达到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915480" y="535464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6" name=""/>
              <p:cNvGrpSpPr/>
              <p:nvPr/>
            </p:nvGrpSpPr>
            <p:grpSpPr>
              <a:xfrm>
                <a:off x="4977720" y="5354640"/>
                <a:ext cx="719280" cy="372600"/>
                <a:chOff x="4977720" y="5354640"/>
                <a:chExt cx="719280" cy="372600"/>
              </a:xfrm>
            </p:grpSpPr>
            <p:sp>
              <p:nvSpPr>
                <p:cNvPr id="1117" name=""/>
                <p:cNvSpPr/>
                <p:nvPr/>
              </p:nvSpPr>
              <p:spPr>
                <a:xfrm>
                  <a:off x="5031000" y="535464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4977720" y="535464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9" name=""/>
              <p:cNvGrpSpPr/>
              <p:nvPr/>
            </p:nvGrpSpPr>
            <p:grpSpPr>
              <a:xfrm>
                <a:off x="5697000" y="5354640"/>
                <a:ext cx="829080" cy="372600"/>
                <a:chOff x="5697000" y="5354640"/>
                <a:chExt cx="829080" cy="372600"/>
              </a:xfrm>
            </p:grpSpPr>
            <p:sp>
              <p:nvSpPr>
                <p:cNvPr id="1120" name=""/>
                <p:cNvSpPr/>
                <p:nvPr/>
              </p:nvSpPr>
              <p:spPr>
                <a:xfrm>
                  <a:off x="5750280" y="53546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5697000" y="535464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2" name=""/>
              <p:cNvGrpSpPr/>
              <p:nvPr/>
            </p:nvGrpSpPr>
            <p:grpSpPr>
              <a:xfrm>
                <a:off x="6526440" y="5354640"/>
                <a:ext cx="829440" cy="372600"/>
                <a:chOff x="6526440" y="5354640"/>
                <a:chExt cx="829440" cy="372600"/>
              </a:xfrm>
            </p:grpSpPr>
            <p:sp>
              <p:nvSpPr>
                <p:cNvPr id="1123" name=""/>
                <p:cNvSpPr/>
                <p:nvPr/>
              </p:nvSpPr>
              <p:spPr>
                <a:xfrm>
                  <a:off x="6579720" y="53546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6526440" y="535464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5" name=""/>
              <p:cNvGrpSpPr/>
              <p:nvPr/>
            </p:nvGrpSpPr>
            <p:grpSpPr>
              <a:xfrm>
                <a:off x="7355880" y="5354640"/>
                <a:ext cx="1326600" cy="372600"/>
                <a:chOff x="7355880" y="5354640"/>
                <a:chExt cx="1326600" cy="37260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7409160" y="535464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7355880" y="535464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8" name=""/>
              <p:cNvGrpSpPr/>
              <p:nvPr/>
            </p:nvGrpSpPr>
            <p:grpSpPr>
              <a:xfrm>
                <a:off x="384480" y="5727600"/>
                <a:ext cx="531000" cy="372600"/>
                <a:chOff x="384480" y="5727600"/>
                <a:chExt cx="531000" cy="372600"/>
              </a:xfrm>
            </p:grpSpPr>
            <p:sp>
              <p:nvSpPr>
                <p:cNvPr id="1129" name=""/>
                <p:cNvSpPr/>
                <p:nvPr/>
              </p:nvSpPr>
              <p:spPr>
                <a:xfrm>
                  <a:off x="437760" y="572760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384480" y="572760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1" name=""/>
              <p:cNvGrpSpPr/>
              <p:nvPr/>
            </p:nvGrpSpPr>
            <p:grpSpPr>
              <a:xfrm>
                <a:off x="915480" y="5727600"/>
                <a:ext cx="4062240" cy="372600"/>
                <a:chOff x="915480" y="5727600"/>
                <a:chExt cx="4062240" cy="37260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968760" y="572760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凹槽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915480" y="572760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4" name=""/>
              <p:cNvGrpSpPr/>
              <p:nvPr/>
            </p:nvGrpSpPr>
            <p:grpSpPr>
              <a:xfrm>
                <a:off x="4977720" y="5727600"/>
                <a:ext cx="719280" cy="372600"/>
                <a:chOff x="4977720" y="5727600"/>
                <a:chExt cx="719280" cy="372600"/>
              </a:xfrm>
            </p:grpSpPr>
            <p:sp>
              <p:nvSpPr>
                <p:cNvPr id="1135" name=""/>
                <p:cNvSpPr/>
                <p:nvPr/>
              </p:nvSpPr>
              <p:spPr>
                <a:xfrm>
                  <a:off x="5031000" y="572760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6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4977720" y="572760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7" name=""/>
              <p:cNvGrpSpPr/>
              <p:nvPr/>
            </p:nvGrpSpPr>
            <p:grpSpPr>
              <a:xfrm>
                <a:off x="5697000" y="5727600"/>
                <a:ext cx="829080" cy="372600"/>
                <a:chOff x="5697000" y="5727600"/>
                <a:chExt cx="829080" cy="372600"/>
              </a:xfrm>
            </p:grpSpPr>
            <p:sp>
              <p:nvSpPr>
                <p:cNvPr id="1138" name=""/>
                <p:cNvSpPr/>
                <p:nvPr/>
              </p:nvSpPr>
              <p:spPr>
                <a:xfrm>
                  <a:off x="5750280" y="57276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5697000" y="572760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0" name=""/>
              <p:cNvGrpSpPr/>
              <p:nvPr/>
            </p:nvGrpSpPr>
            <p:grpSpPr>
              <a:xfrm>
                <a:off x="6526440" y="5727600"/>
                <a:ext cx="829440" cy="372600"/>
                <a:chOff x="6526440" y="5727600"/>
                <a:chExt cx="829440" cy="372600"/>
              </a:xfrm>
            </p:grpSpPr>
            <p:sp>
              <p:nvSpPr>
                <p:cNvPr id="1141" name=""/>
                <p:cNvSpPr/>
                <p:nvPr/>
              </p:nvSpPr>
              <p:spPr>
                <a:xfrm>
                  <a:off x="6579720" y="57276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6526440" y="572760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3" name=""/>
              <p:cNvGrpSpPr/>
              <p:nvPr/>
            </p:nvGrpSpPr>
            <p:grpSpPr>
              <a:xfrm>
                <a:off x="7355880" y="5727600"/>
                <a:ext cx="1326600" cy="372600"/>
                <a:chOff x="7355880" y="5727600"/>
                <a:chExt cx="1326600" cy="372600"/>
              </a:xfrm>
            </p:grpSpPr>
            <p:sp>
              <p:nvSpPr>
                <p:cNvPr id="1144" name=""/>
                <p:cNvSpPr/>
                <p:nvPr/>
              </p:nvSpPr>
              <p:spPr>
                <a:xfrm>
                  <a:off x="7409160" y="572760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7355880" y="572760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6" name=""/>
              <p:cNvGrpSpPr/>
              <p:nvPr/>
            </p:nvGrpSpPr>
            <p:grpSpPr>
              <a:xfrm>
                <a:off x="384480" y="6100560"/>
                <a:ext cx="531000" cy="372600"/>
                <a:chOff x="384480" y="6100560"/>
                <a:chExt cx="531000" cy="372600"/>
              </a:xfrm>
            </p:grpSpPr>
            <p:sp>
              <p:nvSpPr>
                <p:cNvPr id="1147" name=""/>
                <p:cNvSpPr/>
                <p:nvPr/>
              </p:nvSpPr>
              <p:spPr>
                <a:xfrm>
                  <a:off x="437760" y="61005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384480" y="61005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9" name=""/>
              <p:cNvGrpSpPr/>
              <p:nvPr/>
            </p:nvGrpSpPr>
            <p:grpSpPr>
              <a:xfrm>
                <a:off x="915480" y="6100560"/>
                <a:ext cx="4062240" cy="372600"/>
                <a:chOff x="915480" y="6100560"/>
                <a:chExt cx="4062240" cy="372600"/>
              </a:xfrm>
            </p:grpSpPr>
            <p:sp>
              <p:nvSpPr>
                <p:cNvPr id="1150" name=""/>
                <p:cNvSpPr/>
                <p:nvPr/>
              </p:nvSpPr>
              <p:spPr>
                <a:xfrm>
                  <a:off x="968760" y="61005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915480" y="61005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2" name=""/>
              <p:cNvGrpSpPr/>
              <p:nvPr/>
            </p:nvGrpSpPr>
            <p:grpSpPr>
              <a:xfrm>
                <a:off x="4977720" y="6100560"/>
                <a:ext cx="719280" cy="372600"/>
                <a:chOff x="4977720" y="6100560"/>
                <a:chExt cx="719280" cy="372600"/>
              </a:xfrm>
            </p:grpSpPr>
            <p:sp>
              <p:nvSpPr>
                <p:cNvPr id="1153" name=""/>
                <p:cNvSpPr/>
                <p:nvPr/>
              </p:nvSpPr>
              <p:spPr>
                <a:xfrm>
                  <a:off x="5031000" y="61005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4977720" y="61005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5" name=""/>
              <p:cNvGrpSpPr/>
              <p:nvPr/>
            </p:nvGrpSpPr>
            <p:grpSpPr>
              <a:xfrm>
                <a:off x="5697000" y="6100560"/>
                <a:ext cx="829080" cy="372600"/>
                <a:chOff x="5697000" y="6100560"/>
                <a:chExt cx="829080" cy="372600"/>
              </a:xfrm>
            </p:grpSpPr>
            <p:sp>
              <p:nvSpPr>
                <p:cNvPr id="1156" name=""/>
                <p:cNvSpPr/>
                <p:nvPr/>
              </p:nvSpPr>
              <p:spPr>
                <a:xfrm>
                  <a:off x="5750280" y="61005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5697000" y="61005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8" name=""/>
              <p:cNvGrpSpPr/>
              <p:nvPr/>
            </p:nvGrpSpPr>
            <p:grpSpPr>
              <a:xfrm>
                <a:off x="6526440" y="6100560"/>
                <a:ext cx="829440" cy="372600"/>
                <a:chOff x="6526440" y="6100560"/>
                <a:chExt cx="829440" cy="372600"/>
              </a:xfrm>
            </p:grpSpPr>
            <p:sp>
              <p:nvSpPr>
                <p:cNvPr id="1159" name=""/>
                <p:cNvSpPr/>
                <p:nvPr/>
              </p:nvSpPr>
              <p:spPr>
                <a:xfrm>
                  <a:off x="6579720" y="61005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6526440" y="61005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1" name=""/>
              <p:cNvGrpSpPr/>
              <p:nvPr/>
            </p:nvGrpSpPr>
            <p:grpSpPr>
              <a:xfrm>
                <a:off x="7355880" y="6100560"/>
                <a:ext cx="1326600" cy="372600"/>
                <a:chOff x="7355880" y="6100560"/>
                <a:chExt cx="1326600" cy="372600"/>
              </a:xfrm>
            </p:grpSpPr>
            <p:sp>
              <p:nvSpPr>
                <p:cNvPr id="1162" name=""/>
                <p:cNvSpPr/>
                <p:nvPr/>
              </p:nvSpPr>
              <p:spPr>
                <a:xfrm>
                  <a:off x="7409160" y="61005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7355880" y="61005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64" name=""/>
            <p:cNvSpPr/>
            <p:nvPr/>
          </p:nvSpPr>
          <p:spPr>
            <a:xfrm>
              <a:off x="380880" y="1600200"/>
              <a:ext cx="8305920" cy="4876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5" name=""/>
          <p:cNvSpPr/>
          <p:nvPr/>
        </p:nvSpPr>
        <p:spPr>
          <a:xfrm>
            <a:off x="1103400" y="18720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6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1212840" y="-360"/>
            <a:ext cx="2178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8" name="" descr=""/>
          <p:cNvPicPr/>
          <p:nvPr/>
        </p:nvPicPr>
        <p:blipFill>
          <a:blip r:embed="rId2"/>
          <a:stretch/>
        </p:blipFill>
        <p:spPr>
          <a:xfrm>
            <a:off x="1114560" y="1090440"/>
            <a:ext cx="6941880" cy="4980240"/>
          </a:xfrm>
          <a:prstGeom prst="rect">
            <a:avLst/>
          </a:prstGeom>
          <a:ln w="0">
            <a:noFill/>
          </a:ln>
        </p:spPr>
      </p:pic>
      <p:pic>
        <p:nvPicPr>
          <p:cNvPr id="1169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052280" y="150480"/>
            <a:ext cx="21654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．根据图样要求、毛坯及前道工序加工情况，确定工艺方案及加工路线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以已加工过的底面为定位基准，用通用机用平口虎钳夹紧工件前后两侧面，虎钳固定于铣床工作台上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工步顺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①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铣刀先走两个圆轨迹，再用左刀具半径补偿加工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50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×50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四角倒圆的正方形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②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每次切深为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，分二次加工完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2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选择机床设备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根据零件图样要求，选用经济型数控铣床即可达到要求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选择刀具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现采用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φ10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的平底立铣刀，定义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01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并把该刀具的直径输入刀具参数表中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确定切削用量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切削用量的具体数值应根据机床性能、相关的手册并结合实际经验确定，详见加工程序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确定工件坐标系和对刀点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在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XOY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平面内确定以工件中心为工件原点，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方向以工件上表面为工件原点，建立工件坐标系，如图所示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采用手动对刀方法（操作与前面介绍的数控铣床对刀方法相同）把点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作为对刀点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编写程序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考虑到加工图示的槽，深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每次切深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分二次加工完。为编程方便，同时减少指令条数，可采用子程序。该工件的加工程序如下：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title"/>
          </p:nvPr>
        </p:nvSpPr>
        <p:spPr>
          <a:xfrm>
            <a:off x="1076040" y="-360"/>
            <a:ext cx="2739960" cy="81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5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毛坯选择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"/>
          <p:cNvSpPr/>
          <p:nvPr/>
        </p:nvSpPr>
        <p:spPr>
          <a:xfrm>
            <a:off x="177840" y="1155600"/>
            <a:ext cx="8758080" cy="25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毛坯种类选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材料及对零件力学性能的要求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铸铁→铸件，高强度→锻件，一般性能→型材或铸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结构形状与外形尺寸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轴→锻件或型材，大件→铸件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生产类型和生产条件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小批→砂型铸或自由锻，大批→模锻、精密铸，减少粗加工量，提高效率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充分考虑利用新工艺、新技术和新材料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8120" y="3975120"/>
            <a:ext cx="865836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毛坯形状和尺寸选择</a:t>
            </a:r>
            <a:r>
              <a:rPr b="1" lang="zh-CN" sz="2000" spc="-1" strike="noStrike">
                <a:solidFill>
                  <a:srgbClr val="3366ff"/>
                </a:solidFill>
                <a:latin typeface="Verdana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铸锻件毛坯余量应足够大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铸件有夹渣、疏松，锻件有黑皮、飞边和凹凸不平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小、薄或组合件可考虑按多件连体备料，加工完成后再割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不便装夹的零件应加设装夹余料，工艺凸台、凸耳，最后去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7" name=""/>
          <p:cNvSpPr/>
          <p:nvPr/>
        </p:nvSpPr>
        <p:spPr>
          <a:xfrm>
            <a:off x="1835280" y="2565360"/>
            <a:ext cx="561636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 txBox="1"/>
          <p:nvPr/>
        </p:nvSpPr>
        <p:spPr>
          <a:xfrm>
            <a:off x="2195640" y="2781360"/>
            <a:ext cx="4914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谢谢大家</a:t>
            </a:r>
            <a:endParaRPr b="0" lang="en-US" sz="96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81120" y="477720"/>
            <a:ext cx="288720" cy="2890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1440" y="171360"/>
            <a:ext cx="37864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工艺路线的拟定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562040"/>
            <a:ext cx="1158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562040"/>
            <a:ext cx="1158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0" y="2224080"/>
          <a:ext cx="9144000" cy="3873600"/>
        </p:xfrm>
        <a:graphic>
          <a:graphicData uri="http://schemas.openxmlformats.org/drawingml/2006/table">
            <a:tbl>
              <a:tblPr/>
              <a:tblGrid>
                <a:gridCol w="1020600"/>
                <a:gridCol w="1285920"/>
                <a:gridCol w="1204920"/>
                <a:gridCol w="1352520"/>
                <a:gridCol w="874800"/>
                <a:gridCol w="1073160"/>
                <a:gridCol w="1076400"/>
                <a:gridCol w="1255680"/>
              </a:tblGrid>
              <a:tr h="887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方 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经济精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等级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 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糙 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方 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经济精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等级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 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糙 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2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外圆柱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和端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半精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超精加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金刚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圆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钻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半精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镗、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珩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平 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刨（铣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刨（铣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~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平 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刮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6~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2644920" y="1801080"/>
            <a:ext cx="31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各种表面不同加工方法的经济精度及表面粗糙度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41560" y="1070640"/>
            <a:ext cx="53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经济精度：在正常加工条件下所能达到的加工精度及表面粗糙度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选择表面加工方法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"/>
          <p:cNvSpPr/>
          <p:nvPr/>
        </p:nvSpPr>
        <p:spPr>
          <a:xfrm>
            <a:off x="177840" y="1155600"/>
            <a:ext cx="8758080" cy="48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首先应了解各种加工方法所能达到的经济精度，然后考虑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材料及性质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有色金属的精加工不宜采用磨削，因为有色金属易使砂轮堵塞，因此常采用高速精细车削或金刚镗等切削加工方法</a:t>
            </a:r>
            <a:r>
              <a:rPr b="0" lang="zh-CN" sz="20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形状与尺寸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形状复杂、尺寸较大的零件，其上的孔一般不宜采用拉削或磨削；直径大于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Φ60mm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的孔不宜采用钻、扩、铰等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的加工方法要与生产类型相适应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大批量生产应选用高生产率的和质量稳定的加工方法，而单件、小批生产应尽量选择通用设备和避免采用非标准的专用刀具来加工。</a:t>
            </a:r>
            <a:r>
              <a:rPr b="0" lang="zh-CN" sz="20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具体的生产条件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考虑工厂现有的加工设备及其工艺能力、工人的技术水平，以充分利用现有设备和工艺手段，同时也要注意不断引进新技术，对老设备进行技术改造，挖掘企业的潜力，不断提高工艺水平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6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1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6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5048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Verdana"/>
              </a:rPr>
              <a:t>基准及其分类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39640" y="1341360"/>
            <a:ext cx="8353440" cy="5048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0880" y="3429000"/>
            <a:ext cx="1828800" cy="60948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ff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ff"/>
                </a:solidFill>
                <a:latin typeface="Arial"/>
                <a:ea typeface="隶书"/>
              </a:rPr>
              <a:t>基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4267080" y="3429000"/>
            <a:ext cx="2209680" cy="425520"/>
            <a:chOff x="4267080" y="3429000"/>
            <a:chExt cx="2209680" cy="425520"/>
          </a:xfrm>
        </p:grpSpPr>
        <p:sp>
          <p:nvSpPr>
            <p:cNvPr id="88" name=""/>
            <p:cNvSpPr/>
            <p:nvPr/>
          </p:nvSpPr>
          <p:spPr>
            <a:xfrm>
              <a:off x="4876560" y="3429000"/>
              <a:ext cx="1600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33"/>
                  </a:solidFill>
                  <a:latin typeface="Arial"/>
                </a:rPr>
                <a:t>定位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4267080" y="3505320"/>
              <a:ext cx="687240" cy="349200"/>
              <a:chOff x="4267080" y="3505320"/>
              <a:chExt cx="687240" cy="349200"/>
            </a:xfrm>
          </p:grpSpPr>
          <p:sp>
            <p:nvSpPr>
              <p:cNvPr id="90" name=""/>
              <p:cNvSpPr/>
              <p:nvPr/>
            </p:nvSpPr>
            <p:spPr>
              <a:xfrm>
                <a:off x="4267080" y="350532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267080" y="35812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419360" y="35812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" name=""/>
          <p:cNvGrpSpPr/>
          <p:nvPr/>
        </p:nvGrpSpPr>
        <p:grpSpPr>
          <a:xfrm>
            <a:off x="4267080" y="5410080"/>
            <a:ext cx="2209680" cy="425160"/>
            <a:chOff x="4267080" y="5410080"/>
            <a:chExt cx="2209680" cy="425160"/>
          </a:xfrm>
        </p:grpSpPr>
        <p:sp>
          <p:nvSpPr>
            <p:cNvPr id="94" name=""/>
            <p:cNvSpPr/>
            <p:nvPr/>
          </p:nvSpPr>
          <p:spPr>
            <a:xfrm>
              <a:off x="4876560" y="5410080"/>
              <a:ext cx="1600200" cy="38088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工序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267080" y="5486040"/>
              <a:ext cx="687240" cy="349200"/>
              <a:chOff x="4267080" y="5486040"/>
              <a:chExt cx="687240" cy="349200"/>
            </a:xfrm>
          </p:grpSpPr>
          <p:sp>
            <p:nvSpPr>
              <p:cNvPr id="96" name=""/>
              <p:cNvSpPr/>
              <p:nvPr/>
            </p:nvSpPr>
            <p:spPr>
              <a:xfrm>
                <a:off x="4267080" y="548604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267080" y="556200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419360" y="556200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9" name=""/>
          <p:cNvGrpSpPr/>
          <p:nvPr/>
        </p:nvGrpSpPr>
        <p:grpSpPr>
          <a:xfrm>
            <a:off x="4267080" y="4724280"/>
            <a:ext cx="2209680" cy="425520"/>
            <a:chOff x="4267080" y="4724280"/>
            <a:chExt cx="2209680" cy="425520"/>
          </a:xfrm>
        </p:grpSpPr>
        <p:sp>
          <p:nvSpPr>
            <p:cNvPr id="100" name=""/>
            <p:cNvSpPr/>
            <p:nvPr/>
          </p:nvSpPr>
          <p:spPr>
            <a:xfrm>
              <a:off x="4876560" y="4724280"/>
              <a:ext cx="1600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33"/>
                  </a:solidFill>
                  <a:latin typeface="Arial"/>
                </a:rPr>
                <a:t>装配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4267080" y="4800600"/>
              <a:ext cx="687240" cy="349200"/>
              <a:chOff x="4267080" y="4800600"/>
              <a:chExt cx="687240" cy="349200"/>
            </a:xfrm>
          </p:grpSpPr>
          <p:sp>
            <p:nvSpPr>
              <p:cNvPr id="102" name=""/>
              <p:cNvSpPr/>
              <p:nvPr/>
            </p:nvSpPr>
            <p:spPr>
              <a:xfrm>
                <a:off x="4267080" y="48006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267080" y="48765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419360" y="48765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" name=""/>
          <p:cNvGrpSpPr/>
          <p:nvPr/>
        </p:nvGrpSpPr>
        <p:grpSpPr>
          <a:xfrm>
            <a:off x="4343400" y="4038480"/>
            <a:ext cx="2209680" cy="425520"/>
            <a:chOff x="4343400" y="4038480"/>
            <a:chExt cx="2209680" cy="425520"/>
          </a:xfrm>
        </p:grpSpPr>
        <p:sp>
          <p:nvSpPr>
            <p:cNvPr id="106" name=""/>
            <p:cNvSpPr/>
            <p:nvPr/>
          </p:nvSpPr>
          <p:spPr>
            <a:xfrm>
              <a:off x="4952880" y="4038480"/>
              <a:ext cx="1600200" cy="38124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测量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343400" y="4114800"/>
              <a:ext cx="687240" cy="349200"/>
              <a:chOff x="4343400" y="4114800"/>
              <a:chExt cx="687240" cy="349200"/>
            </a:xfrm>
          </p:grpSpPr>
          <p:sp>
            <p:nvSpPr>
              <p:cNvPr id="108" name=""/>
              <p:cNvSpPr/>
              <p:nvPr/>
            </p:nvSpPr>
            <p:spPr>
              <a:xfrm>
                <a:off x="4343400" y="41148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4340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49568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" name=""/>
          <p:cNvGrpSpPr/>
          <p:nvPr/>
        </p:nvGrpSpPr>
        <p:grpSpPr>
          <a:xfrm>
            <a:off x="2057400" y="2666880"/>
            <a:ext cx="2133720" cy="533520"/>
            <a:chOff x="2057400" y="2666880"/>
            <a:chExt cx="2133720" cy="533520"/>
          </a:xfrm>
        </p:grpSpPr>
        <p:sp>
          <p:nvSpPr>
            <p:cNvPr id="112" name=""/>
            <p:cNvSpPr/>
            <p:nvPr/>
          </p:nvSpPr>
          <p:spPr>
            <a:xfrm>
              <a:off x="2743200" y="2666880"/>
              <a:ext cx="1447920" cy="533520"/>
            </a:xfrm>
            <a:prstGeom prst="rect">
              <a:avLst/>
            </a:prstGeom>
            <a:solidFill>
              <a:srgbClr val="00663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Arial"/>
                  <a:ea typeface="隶书"/>
                </a:rPr>
                <a:t>设计基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2057400" y="2819520"/>
              <a:ext cx="687240" cy="349200"/>
              <a:chOff x="2057400" y="2819520"/>
              <a:chExt cx="687240" cy="349200"/>
            </a:xfrm>
          </p:grpSpPr>
          <p:sp>
            <p:nvSpPr>
              <p:cNvPr id="114" name=""/>
              <p:cNvSpPr/>
              <p:nvPr/>
            </p:nvSpPr>
            <p:spPr>
              <a:xfrm>
                <a:off x="2057400" y="281952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57400" y="28954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09680" y="28954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" name=""/>
          <p:cNvGrpSpPr/>
          <p:nvPr/>
        </p:nvGrpSpPr>
        <p:grpSpPr>
          <a:xfrm>
            <a:off x="2133720" y="3962520"/>
            <a:ext cx="2057400" cy="533160"/>
            <a:chOff x="2133720" y="3962520"/>
            <a:chExt cx="2057400" cy="533160"/>
          </a:xfrm>
        </p:grpSpPr>
        <p:sp>
          <p:nvSpPr>
            <p:cNvPr id="118" name=""/>
            <p:cNvSpPr/>
            <p:nvPr/>
          </p:nvSpPr>
          <p:spPr>
            <a:xfrm>
              <a:off x="2743200" y="3962520"/>
              <a:ext cx="1447920" cy="533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ffff"/>
                  </a:solidFill>
                  <a:latin typeface="Arial"/>
                  <a:ea typeface="隶书"/>
                </a:rPr>
                <a:t>工艺基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2133720" y="4114800"/>
              <a:ext cx="687240" cy="349200"/>
              <a:chOff x="2133720" y="4114800"/>
              <a:chExt cx="687240" cy="349200"/>
            </a:xfrm>
          </p:grpSpPr>
          <p:sp>
            <p:nvSpPr>
              <p:cNvPr id="120" name=""/>
              <p:cNvSpPr/>
              <p:nvPr/>
            </p:nvSpPr>
            <p:spPr>
              <a:xfrm>
                <a:off x="2133720" y="41148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13372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600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" name=""/>
          <p:cNvSpPr/>
          <p:nvPr/>
        </p:nvSpPr>
        <p:spPr>
          <a:xfrm flipH="1">
            <a:off x="244440" y="4632480"/>
            <a:ext cx="1812960" cy="1981080"/>
          </a:xfrm>
          <a:prstGeom prst="wedgeRoundRectCallout">
            <a:avLst>
              <a:gd name="adj1" fmla="val 10768"/>
              <a:gd name="adj2" fmla="val -7836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用于确定零件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其它点、线、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位置所依据的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些点、线、面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894760" y="1295280"/>
            <a:ext cx="1752840" cy="914400"/>
          </a:xfrm>
          <a:prstGeom prst="wedgeRoundRectCallout">
            <a:avLst>
              <a:gd name="adj1" fmla="val -21921"/>
              <a:gd name="adj2" fmla="val 10537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设计图样上所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用的基准就是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计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028480" y="1752480"/>
            <a:ext cx="2133720" cy="1067040"/>
          </a:xfrm>
          <a:prstGeom prst="wedgeRoundRectCallout">
            <a:avLst>
              <a:gd name="adj1" fmla="val 39134"/>
              <a:gd name="adj2" fmla="val 10386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在加工时用于工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定位的基准，称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定位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6477120" y="2819520"/>
            <a:ext cx="2209680" cy="1447560"/>
            <a:chOff x="6477120" y="2819520"/>
            <a:chExt cx="2209680" cy="1447560"/>
          </a:xfrm>
        </p:grpSpPr>
        <p:sp>
          <p:nvSpPr>
            <p:cNvPr id="127" name=""/>
            <p:cNvSpPr/>
            <p:nvPr/>
          </p:nvSpPr>
          <p:spPr>
            <a:xfrm>
              <a:off x="7086600" y="2819520"/>
              <a:ext cx="1600200" cy="14475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粗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精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辅助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主要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5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附加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6477120" y="3429000"/>
              <a:ext cx="687240" cy="349200"/>
              <a:chOff x="6477120" y="3429000"/>
              <a:chExt cx="687240" cy="349200"/>
            </a:xfrm>
          </p:grpSpPr>
          <p:sp>
            <p:nvSpPr>
              <p:cNvPr id="129" name=""/>
              <p:cNvSpPr/>
              <p:nvPr/>
            </p:nvSpPr>
            <p:spPr>
              <a:xfrm>
                <a:off x="6477120" y="34290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477120" y="35049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629400" y="35049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2" name=""/>
          <p:cNvSpPr/>
          <p:nvPr/>
        </p:nvSpPr>
        <p:spPr>
          <a:xfrm flipH="1">
            <a:off x="7086600" y="4419720"/>
            <a:ext cx="1828800" cy="990360"/>
          </a:xfrm>
          <a:prstGeom prst="wedgeRoundRectCallout">
            <a:avLst>
              <a:gd name="adj1" fmla="val 77949"/>
              <a:gd name="adj2" fmla="val -6859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加工中或加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后用来测量工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时采用的基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2" action="ppaction://hlinksldjump"/>
          </p:cNvPr>
          <p:cNvSpPr/>
          <p:nvPr/>
        </p:nvSpPr>
        <p:spPr>
          <a:xfrm flipH="1">
            <a:off x="6705000" y="5562720"/>
            <a:ext cx="2361960" cy="1249200"/>
          </a:xfrm>
          <a:prstGeom prst="wedgeRoundRectCallout">
            <a:avLst>
              <a:gd name="adj1" fmla="val 60347"/>
              <a:gd name="adj2" fmla="val -9066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装配时用来确定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件或部件在产品中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对位置所采用的基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3" action="ppaction://hlinksldjump"/>
          </p:cNvPr>
          <p:cNvSpPr/>
          <p:nvPr/>
        </p:nvSpPr>
        <p:spPr>
          <a:xfrm flipH="1">
            <a:off x="3276000" y="6172200"/>
            <a:ext cx="2895480" cy="380880"/>
          </a:xfrm>
          <a:prstGeom prst="wedgeRoundRectCallout">
            <a:avLst>
              <a:gd name="adj1" fmla="val -40245"/>
              <a:gd name="adj2" fmla="val -12958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工序图上使用的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438280" y="4876920"/>
            <a:ext cx="1524240" cy="990360"/>
          </a:xfrm>
          <a:prstGeom prst="wedgeRoundRectCallout">
            <a:avLst>
              <a:gd name="adj1" fmla="val 2291"/>
              <a:gd name="adj2" fmla="val -8910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加工、测量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装配过程中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用的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76200" y="247320"/>
            <a:ext cx="6369120" cy="515880"/>
          </a:xfrm>
          <a:prstGeom prst="rect">
            <a:avLst/>
          </a:prstGeom>
          <a:solidFill>
            <a:srgbClr val="800000"/>
          </a:solidFill>
          <a:ln w="12600">
            <a:solidFill>
              <a:srgbClr val="ff6600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bbffff"/>
                </a:solidFill>
                <a:latin typeface="Verdana"/>
              </a:rPr>
              <a:t>基准及其分类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lue666</cp:lastModifiedBy>
  <dcterms:modified xsi:type="dcterms:W3CDTF">2010-12-17T07:41:14Z</dcterms:modified>
  <cp:revision>162</cp:revision>
  <dc:subject/>
  <dc:title>PowerPoint Presentation</dc:title>
</cp:coreProperties>
</file>